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6A62-7986-47E4-BF94-710D4D09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86D0-8E63-432E-B5E6-6E553E58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A88-1417-4B07-9FBD-C29935F8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8855-9F9A-4AA6-B910-7C287028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91FE-2691-40A6-AC49-88C5EDCC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021D-C6E6-44B6-96D8-222B70B7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81DD-0B5F-485D-BB33-84FB0FFC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1881-7FE7-4698-BD65-C2360B74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9245-E6AD-4110-AA03-4FAAE3D3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7A70-A26A-41E1-AB4A-54255912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D91C-8B16-460D-8388-721789EE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B32-7497-4154-9A79-92C2C18C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CD98-6495-479C-8D2B-253B758F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B4DE-8EB4-40F1-90D9-DF8E1719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4949-F7AC-4604-93E8-0D6F6025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4F9B-6EB2-47BD-807E-262F3B40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A2CB-4181-4AB0-B673-A2B6216F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9D2ED-137D-4F00-B683-45D792E1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29A9D3-DE9F-4FC0-939A-F49268E4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A39B8-7C2C-4163-B508-BC81D672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47773-11C1-44AB-87E3-E47EFA59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00025-69C9-4E3F-940A-9FC65A21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6E8F-80F5-404F-9161-ECB8A44B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F228C-ABC6-48B8-A815-A8518B67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7A061-D41F-42D5-8531-0635BFD7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03CF4-E6D2-4BA9-918F-14DA97F3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2656D-D23A-43D5-8DC3-5B17A877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273B1-2895-4557-BC66-5C050C0D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B7192-5873-4EE0-906C-C3FDC910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D012E-3ED5-4CE8-A510-3B8E49D8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4DBA9-E98E-4D5F-AD38-D1FC1BF8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EFF20-9AA3-494E-BD13-E9F76B6D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12711-B906-4814-BD58-2AF47043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53E3-BD88-4602-8072-5F5FB862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79201-49EB-40AB-BCF9-18A73DD8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5E6E3-02DA-456D-A44D-26DBF4BF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7CDB0-B8C5-413A-AB79-72F3E221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F1034-3BF5-40ED-B105-5F273BE8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F96F9-A851-4012-BB4B-563AE8A3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34837-66F5-4712-B6D9-84796A32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0214B-50A4-4638-96D8-A0509880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62062-A561-4E16-BBC4-E3312C03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73325-62A4-4806-935A-10936271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7518A-8862-458E-9EC3-2A0484DA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377-FB4E-4029-B35A-C1D512CE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66A1E-5A08-40B5-B97A-71262722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59F04-7F30-4C45-BA33-E4485230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5FD17-A02D-4432-ACB7-DCE2D898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89761-9A61-4645-BC71-9786E539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08D6F-F72A-4A0A-A7DA-B9380552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D808E-77F3-43C4-A788-BE4001B6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84DD3-A012-43C0-B10C-AEAFAE32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360C7-4D0F-47E5-9033-A3B81993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4A553-381E-4B11-8B11-AD06705A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9AC3F-ED11-4E35-9CB5-DC1F09D7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8D42-E8FC-4F36-86AE-B21523D6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F8972-0073-4192-A582-0AF79D51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EAB-3705-4F38-B81F-3B11D8FC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90A-9769-4A51-964B-2CC69510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F686-74CF-4EBA-9431-B82DE2B8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EBA3-979A-40B1-AA30-EC71A26A646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124F-1A96-4D55-B045-54C23DA4FDF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1AF6-F75E-42A2-BA0D-A1C06936354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C465-39C5-4649-84F6-921FFA324AE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730D-B704-4712-BB2B-DB1E1BB13EC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5"/>
          <p:cNvSpPr/>
          <p:nvPr/>
        </p:nvSpPr>
        <p:spPr>
          <a:xfrm>
            <a:off x="4800240" y="4729320"/>
            <a:ext cx="443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Увидеть и понять проблему –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оловину решить её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сли же не видишь проблему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 значит, что она в тебе самом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8458200" cy="231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КАК ПОВЫСИТЬ КАЧЕСТВО ЗНАНИЙ УЧАЩИХСЯ С РИСКОМ УЧЕБНОЙ НЕУСПЕШНОСТИ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0" name="Схема 8" descr=""/>
          <p:cNvPicPr/>
          <p:nvPr/>
        </p:nvPicPr>
        <p:blipFill>
          <a:blip r:embed="rId1"/>
          <a:stretch/>
        </p:blipFill>
        <p:spPr>
          <a:xfrm>
            <a:off x="0" y="4078440"/>
            <a:ext cx="5473800" cy="25239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50920" y="1699920"/>
            <a:ext cx="8642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6. Конфликтные отношения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о сверстниками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учителями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тказ от усилий в учебной деятельности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7. Низкий познавательный интерес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е срабатывают карательные меры (двойки, наказания и т. д.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Нуждается: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поддержке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демонстрации того, что он состоятелен в других видах деятельности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лезно включить занимательные задачи и головоломки, интересные рассказы, обеспечить “эффект новизны” при решении учебных задач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0" name="Схема 3" descr=""/>
          <p:cNvPicPr/>
          <p:nvPr/>
        </p:nvPicPr>
        <p:blipFill>
          <a:blip r:embed="rId1"/>
          <a:stretch/>
        </p:blipFill>
        <p:spPr>
          <a:xfrm>
            <a:off x="914400" y="549360"/>
            <a:ext cx="82296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250920" y="1699920"/>
            <a:ext cx="8642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8. Низкий уровень развития словесно-логического мышл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еобходимо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глядность в решении и изложении учебного материала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ализация принципа доступности учебного материал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9. Низкая работоспособност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оявляется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утомляемости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истощаемости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медленном темпе работы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2" name="Схема 3" descr=""/>
          <p:cNvPicPr/>
          <p:nvPr/>
        </p:nvPicPr>
        <p:blipFill>
          <a:blip r:embed="rId1"/>
          <a:stretch/>
        </p:blipFill>
        <p:spPr>
          <a:xfrm>
            <a:off x="914400" y="549360"/>
            <a:ext cx="82296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Схема 3" descr=""/>
          <p:cNvPicPr/>
          <p:nvPr/>
        </p:nvPicPr>
        <p:blipFill>
          <a:blip r:embed="rId1"/>
          <a:stretch/>
        </p:blipFill>
        <p:spPr>
          <a:xfrm>
            <a:off x="1547640" y="1731960"/>
            <a:ext cx="6194520" cy="4960800"/>
          </a:xfrm>
          <a:prstGeom prst="rect">
            <a:avLst/>
          </a:prstGeom>
          <a:ln w="0">
            <a:noFill/>
          </a:ln>
        </p:spPr>
      </p:pic>
      <p:pic>
        <p:nvPicPr>
          <p:cNvPr id="294" name="Схема 7" descr=""/>
          <p:cNvPicPr/>
          <p:nvPr/>
        </p:nvPicPr>
        <p:blipFill>
          <a:blip r:embed="rId2"/>
          <a:stretch/>
        </p:blipFill>
        <p:spPr>
          <a:xfrm>
            <a:off x="1262160" y="549360"/>
            <a:ext cx="78818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108000" y="765000"/>
          <a:ext cx="8891640" cy="5645160"/>
        </p:xfrm>
        <a:graphic>
          <a:graphicData uri="http://schemas.openxmlformats.org/drawingml/2006/table">
            <a:tbl>
              <a:tblPr/>
              <a:tblGrid>
                <a:gridCol w="1481040"/>
                <a:gridCol w="1482840"/>
                <a:gridCol w="1500120"/>
                <a:gridCol w="1463760"/>
                <a:gridCol w="1482480"/>
                <a:gridCol w="1481400"/>
              </a:tblGrid>
              <a:tr h="371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УТРЕННИЕ ПО ОТНОШЕНИЮ К УЧЕН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ШНИЕ ПО ОТНОШЕНИЮ К УЧЕН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4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ки биологическо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ки психического развития лич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ки воспитанности лич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ки образования лич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ки опыта влияний шко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ки влияний внешкольной 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екты органов чув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развитие эмоциональной сферы лич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ки в развитии моральных качеств лич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елы в знаниях и специальны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ки процесса обучения,  учебных пособий и п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ки влияний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371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матическая ослабл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развитие во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ки в отношении личности к учителям, коллективу, семье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елы в навыках учебного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ки воспитательных влияний школы (учителей, коллектива учащихся и д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ки влияний свер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373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высшей нервной деятельности, отрицательно влияющие на у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положительных познавательных интересов, мотивов, потреб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ки в трудовой воспита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ки влияний культурно-производственного окру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ие откло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0" y="191592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обходимо выяснить причину отстава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ить действительный уровень знан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вратить” на ту ступень обучения, где он будет соответствовать требованиям программы, Государственным Образовательным Стандарта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7" name="Схема 3" descr=""/>
          <p:cNvPicPr/>
          <p:nvPr/>
        </p:nvPicPr>
        <p:blipFill>
          <a:blip r:embed="rId1"/>
          <a:stretch/>
        </p:blipFill>
        <p:spPr>
          <a:xfrm>
            <a:off x="914400" y="549360"/>
            <a:ext cx="82296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179280" y="170028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тобы предотвратить неуспеваемость, надо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воевременно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ыявлят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образовавшиеся пробелы в ЗУН учащихся и организовать своевременную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ликвидацию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этих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обелов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становить правильность и разумность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пособов учебной работ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применяемых учащимися, и при необходимости корректировать эти способы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истематически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бучат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учащихся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бщеучебным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умениям и навыкам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рганизовать учебный процесс, жизнь учащихся в школе и в классе так, чтобы вызвать и развить у учащихся внутреннюю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отивацию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учебной деятельности, стойкий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знавательный интерес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 учению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9" name="Схема 3" descr=""/>
          <p:cNvPicPr/>
          <p:nvPr/>
        </p:nvPicPr>
        <p:blipFill>
          <a:blip r:embed="rId1"/>
          <a:stretch/>
        </p:blipFill>
        <p:spPr>
          <a:xfrm>
            <a:off x="914400" y="549360"/>
            <a:ext cx="82296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79280" y="196200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работе со слабыми учащимися учитель должен опираться на следующие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авила, разработанные психологами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ставить слабого в ситуацию неожиданного вопроса и не требовать быстрого ответа на него, давать ученику достаточно времени на обдумывание и подготовку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Желательно, чтобы ответ был не в устной, а в письменной форм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льзя давать для усвоения в ограниченный промежуток времени большой, разнообразный, сложный материал, нужно постараться разбить его на отдельные информационные куски и давать их постепенно, по мере усво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следует заставлять таких учеников отвечать на вопросы по новому, только что усвоенному материалу, лучше отложить опрос на следующий урок, дав возможность ученикам позаниматься дом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1" name="Схема 3" descr=""/>
          <p:cNvPicPr/>
          <p:nvPr/>
        </p:nvPicPr>
        <p:blipFill>
          <a:blip r:embed="rId1"/>
          <a:stretch/>
        </p:blipFill>
        <p:spPr>
          <a:xfrm>
            <a:off x="914400" y="549360"/>
            <a:ext cx="82296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79280" y="196200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3" name="Схема 3" descr=""/>
          <p:cNvPicPr/>
          <p:nvPr/>
        </p:nvPicPr>
        <p:blipFill>
          <a:blip r:embed="rId1"/>
          <a:stretch/>
        </p:blipFill>
        <p:spPr>
          <a:xfrm>
            <a:off x="914400" y="54936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5"/>
          <p:cNvSpPr/>
          <p:nvPr/>
        </p:nvSpPr>
        <p:spPr>
          <a:xfrm>
            <a:off x="395280" y="2060640"/>
            <a:ext cx="820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2480" indent="-74304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утём правильной тактики опросов и поощрений (не только оценкой, но и замечаниями типа «отлично», «молодец», «умница» и т. д.) нужно формировать у таких учеников уверенность в своих силах, в своих знаниях, в возможности учиться. Эта уверенность поможет ученику в экстремальных стрессовых ситуациях сдачи экзаменов, написания контрольных работ и т. 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52480" indent="-74304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ледует осторожнее оценивать неудачи ученика, ведь он сам очень болезненно к ним относит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52480" indent="-74304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 время подготовки учеником ответа нужно дать ему время для проверки и исправления написанног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852480" indent="-74304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ледует в минимальной степени отвлекать ученика, стараться не переключать его внимание, создавать спокойную, не нервозную обстановк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324000" y="1484280"/>
          <a:ext cx="8640720" cy="5248440"/>
        </p:xfrm>
        <a:graphic>
          <a:graphicData uri="http://schemas.openxmlformats.org/drawingml/2006/table">
            <a:tbl>
              <a:tblPr/>
              <a:tblGrid>
                <a:gridCol w="2879640"/>
                <a:gridCol w="576108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ЭТАПЫ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АКЦЕНТЫ В ОБУЧ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518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. В процессе контроля за подготовленностью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пециально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онтролирова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усвоение вопросов, обычно вызывающих у учащихся наибольшие затрудн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Тщательно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анализирова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и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истематизировать ошибк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допускаемые учениками в устных ответах, письменных работах, выявить типичные для класса и концентрировать внимание на их устранен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онтролировать усвоение материала учениками,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ропустившим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предыдущие урок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о окончании изучения темы или раздела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общить итоги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усвоения основных понятий, законов, правил, умений и навыков школьниками, выявлять причины отста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306" name="Схема 3" descr=""/>
          <p:cNvPicPr/>
          <p:nvPr/>
        </p:nvPicPr>
        <p:blipFill>
          <a:blip r:embed="rId1"/>
          <a:stretch/>
        </p:blipFill>
        <p:spPr>
          <a:xfrm>
            <a:off x="914400" y="334800"/>
            <a:ext cx="8229600" cy="12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468360" y="1628640"/>
          <a:ext cx="8229600" cy="4334040"/>
        </p:xfrm>
        <a:graphic>
          <a:graphicData uri="http://schemas.openxmlformats.org/drawingml/2006/table">
            <a:tbl>
              <a:tblPr/>
              <a:tblGrid>
                <a:gridCol w="3456000"/>
                <a:gridCol w="477360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ЭТАПЫ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АКЦЕНТЫ В ОБУЧ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426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.При изложении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овог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матери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язательно проверять в ходе урока степень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ониман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учащимися основных элементов излагаемого материал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тимулировать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опрос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со стороны учащихся при затруднениях в усвоении учебного материал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рименять средства поддержания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интереса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 усвоению знани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еспечит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азнообразие методо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учения, позволяющих всем учащимся активно усваивать материа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308" name="Схема 3" descr=""/>
          <p:cNvPicPr/>
          <p:nvPr/>
        </p:nvPicPr>
        <p:blipFill>
          <a:blip r:embed="rId1"/>
          <a:stretch/>
        </p:blipFill>
        <p:spPr>
          <a:xfrm>
            <a:off x="914400" y="334800"/>
            <a:ext cx="8229600" cy="12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68360" y="2060640"/>
            <a:ext cx="822960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ать эффективный алгоритм работы педагогического коллектива лицея со слабоуспевающими и неуспевающими учащимис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явить возможные причины низкой неуспеваемости учащихс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работать комплекс мер, направленных на повышение успеваемости и подготовку выпускников к успешному прохождению государственной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Заголовок 1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13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3" name="Схема 16" descr=""/>
          <p:cNvPicPr/>
          <p:nvPr/>
        </p:nvPicPr>
        <p:blipFill>
          <a:blip r:embed="rId1"/>
          <a:stretch/>
        </p:blipFill>
        <p:spPr>
          <a:xfrm>
            <a:off x="639720" y="639720"/>
            <a:ext cx="82296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250920" y="1557360"/>
          <a:ext cx="8642160" cy="4943520"/>
        </p:xfrm>
        <a:graphic>
          <a:graphicData uri="http://schemas.openxmlformats.org/drawingml/2006/table">
            <a:tbl>
              <a:tblPr/>
              <a:tblGrid>
                <a:gridCol w="2305080"/>
                <a:gridCol w="633708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ЭТАПЫ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АКЦЕНТЫ В ОБУЧ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548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.В ходе самостоятельной работы учащихся на уро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одбирать для самостоятельной работы задания по наиболее существенным, сложным и трудным разделам учебного материала, стремясь меньшим числом упражнений, но поданных в определённой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истем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достичь большего эффек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ключать в содержание самостоятельной работы упражнения по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устранению ошибо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допущенных при ответах в письменных работах.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Инструктирова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о порядке выполнения работы. Стимулировать постановку вопросов учителю при затруднениях в самостоятельной работе. Умело оказывать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омощ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ученикам в работе, всемерно развивать их самостоятельн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Учить умениям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ланировать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аботу, выполнять её в должном темпе и осуществлять контрол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310" name="Схема 3" descr=""/>
          <p:cNvPicPr/>
          <p:nvPr/>
        </p:nvPicPr>
        <p:blipFill>
          <a:blip r:embed="rId1"/>
          <a:stretch/>
        </p:blipFill>
        <p:spPr>
          <a:xfrm>
            <a:off x="914400" y="334800"/>
            <a:ext cx="8229600" cy="12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250920" y="1557360"/>
          <a:ext cx="8642160" cy="4943520"/>
        </p:xfrm>
        <a:graphic>
          <a:graphicData uri="http://schemas.openxmlformats.org/drawingml/2006/table">
            <a:tbl>
              <a:tblPr/>
              <a:tblGrid>
                <a:gridCol w="3168720"/>
                <a:gridCol w="547344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ЭТАПЫ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АКЦЕНТЫ В ОБУЧ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548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4.При организации самостоятельной работы вне кл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еспечить в ходе домашней работы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овторе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пройденного, концентрируя внимание на наиболее существенных элементах программы, вызывающих обычно наибольшие затрудн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истематически давать домашние задания по работе над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типичными ошибкам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Чётко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инструктирова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учащихся о порядке выполнения домашних работ, проверять степень понимания этих инструкций слабоуспевающими учащими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огласовывать объём домашних заданий с другими учителями класса,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исключая перегрузк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, особенно слабоуспевающих учени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312" name="Схема 3" descr=""/>
          <p:cNvPicPr/>
          <p:nvPr/>
        </p:nvPicPr>
        <p:blipFill>
          <a:blip r:embed="rId1"/>
          <a:stretch/>
        </p:blipFill>
        <p:spPr>
          <a:xfrm>
            <a:off x="914400" y="334800"/>
            <a:ext cx="8229600" cy="12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24000" y="1915920"/>
            <a:ext cx="8640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ифференцированный подход в обучени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Дидактические материал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пециальные обучающие таблицы, плакаты и схемы для самоконтроля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рточки – заданий, определяющих условие предлагаемого задания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рточки с текстами получаемой информации, сопровождаемой необходимыми разъяснениями, чертежами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рточки, в которых показаны образцы того, как следует вести решения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рточки-инструкции, в которых даются указания к выполнению задан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4" name="Схема 3" descr=""/>
          <p:cNvPicPr/>
          <p:nvPr/>
        </p:nvPicPr>
        <p:blipFill>
          <a:blip r:embed="rId1"/>
          <a:stretch/>
        </p:blipFill>
        <p:spPr>
          <a:xfrm>
            <a:off x="914400" y="549360"/>
            <a:ext cx="82296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24000" y="1773360"/>
            <a:ext cx="8640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92560" indent="-4885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ифференцированный подход в обучен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92560" indent="-4885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92560" indent="-48852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рёхвариантные задания по степени трудности – облегчённый, средний и повышенный (выбор варианта предоставляется учащемуся)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92560" indent="-48852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щее для всей группы задание с предложением системы дополнительных заданий все возрастающей степени трудности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92560" indent="-48852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дивидуальные дифференцированные задания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92560" indent="-48852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рупповые дифференцированные задания с учётом различной подготовки учащихся (вариант определяет учитель)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92560" indent="-48852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вноценные двухвариантные задания по рядам с предложением к каждому варианту системы дополнительных заданий все возрастающей сложности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92560" indent="-48852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щие практические задания с указанием минимального количества задач и примеров для обязательного выполнения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92560" indent="-48852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дивидуальные групповые задания различной степени трудности по уже решенным задачам и примерам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92560" indent="-48852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дивидуально-групповые задания, предлагаемые в виде запрограммированных карточек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92560" indent="-4885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6" name="Схема 3" descr=""/>
          <p:cNvPicPr/>
          <p:nvPr/>
        </p:nvPicPr>
        <p:blipFill>
          <a:blip r:embed="rId1"/>
          <a:stretch/>
        </p:blipFill>
        <p:spPr>
          <a:xfrm>
            <a:off x="914400" y="549360"/>
            <a:ext cx="82296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24000" y="191592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здать на уроке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итуацию успеха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мочь сильному ученику реализовать свои возможности в более трудоемкой и сложной деятельности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абому – выполнить посильный объем работы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8" name="Схема 3" descr=""/>
          <p:cNvPicPr/>
          <p:nvPr/>
        </p:nvPicPr>
        <p:blipFill>
          <a:blip r:embed="rId1"/>
          <a:stretch/>
        </p:blipFill>
        <p:spPr>
          <a:xfrm>
            <a:off x="914400" y="549360"/>
            <a:ext cx="82296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24000" y="191592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25560" indent="-514440" algn="just">
              <a:spcBef>
                <a:spcPts val="300"/>
              </a:spcBef>
              <a:buClr>
                <a:srgbClr val="7030a0"/>
              </a:buClr>
              <a:buFont typeface="Georgi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хнология, основанная на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ичностно – ориентированной педагогик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(разные школы - Якиманская, Сериков).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925560" indent="-514440" algn="just">
              <a:spcBef>
                <a:spcPts val="300"/>
              </a:spcBef>
              <a:buClr>
                <a:srgbClr val="7030a0"/>
              </a:buClr>
              <a:buFont typeface="Georgi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бучение в сотрудничеств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 Главная идея обучения в сотрудничестве – учиться вместе, а не просто выполнять вместе. В классе создаются несколько команд разного уровня. 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0" name="Схема 3" descr=""/>
          <p:cNvPicPr/>
          <p:nvPr/>
        </p:nvPicPr>
        <p:blipFill>
          <a:blip r:embed="rId1"/>
          <a:stretch/>
        </p:blipFill>
        <p:spPr>
          <a:xfrm>
            <a:off x="914400" y="549360"/>
            <a:ext cx="82296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24000" y="191592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азнообразные формы и жанры урока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рок-иг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рок-спектакл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рок-путешеств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рок-детекти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рок-сказ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рок-силовое многоборь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рок-концер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рок-картин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2" name="Схема 3" descr=""/>
          <p:cNvPicPr/>
          <p:nvPr/>
        </p:nvPicPr>
        <p:blipFill>
          <a:blip r:embed="rId1"/>
          <a:stretch/>
        </p:blipFill>
        <p:spPr>
          <a:xfrm>
            <a:off x="914400" y="549360"/>
            <a:ext cx="82296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24000" y="191592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06840" indent="-504000">
              <a:lnSpc>
                <a:spcPct val="90000"/>
              </a:lnSpc>
              <a:spcBef>
                <a:spcPts val="300"/>
              </a:spcBef>
              <a:buClr>
                <a:srgbClr val="7030a0"/>
              </a:buClr>
              <a:buFont typeface="Georgi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оектное обучение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906840" indent="-504000" algn="just">
              <a:lnSpc>
                <a:spcPct val="90000"/>
              </a:lnSpc>
              <a:spcBef>
                <a:spcPts val="300"/>
              </a:spcBef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етод проектов рассматривается как способ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ктуализации и стимулирования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знавательной деятельности учащихся.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906840" indent="-504000" algn="just">
              <a:lnSpc>
                <a:spcPct val="90000"/>
              </a:lnSpc>
              <a:spcBef>
                <a:spcPts val="300"/>
              </a:spcBef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и работе над проектом у учащихся не только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систематизируются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и обобщаются полученные знания на уроках, но и разви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внимание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06840" indent="-504000" algn="just">
              <a:lnSpc>
                <a:spcPct val="90000"/>
              </a:lnSpc>
              <a:spcBef>
                <a:spcPts val="300"/>
              </a:spcBef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оектно-исследовательская деятельность позволяет школьникам на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практике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применить знания, полученные на уроках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611280" indent="-504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4" name="Схема 3" descr=""/>
          <p:cNvPicPr/>
          <p:nvPr/>
        </p:nvPicPr>
        <p:blipFill>
          <a:blip r:embed="rId1"/>
          <a:stretch/>
        </p:blipFill>
        <p:spPr>
          <a:xfrm>
            <a:off x="914400" y="549360"/>
            <a:ext cx="82296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24000" y="191592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05160" indent="-49896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Технология “полного усвоения”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: индивидуализировать занятия так, чтобы каждый ученик получил столько времени, сколько надо для полного усвоения материал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5160" indent="-49896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5160" indent="-49896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: создание системы психолого-педагогических условий, позволяющих в едином классном коллективе работать с ориентацией не на “усредненного” ученика, а с каждым в отдельности с учетом индивидуальных познавательных возможностей, потребностей и интересов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5160" indent="-49896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ехнология позволяет ученику при возможности и возникшем интересе перейти на более высокий уровень на любом этапе обучения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5160" indent="-49896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5160" indent="-49896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аким образом,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дифференциация способствует индивидуализации обучения, и соответственно к концу изучения темы каждый оказывается на том уровне, на котором он может или желает оказаться за отведенное на данную тему врем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5160" indent="-498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5160" indent="-498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6" name="Схема 3" descr=""/>
          <p:cNvPicPr/>
          <p:nvPr/>
        </p:nvPicPr>
        <p:blipFill>
          <a:blip r:embed="rId1"/>
          <a:stretch/>
        </p:blipFill>
        <p:spPr>
          <a:xfrm>
            <a:off x="914400" y="549360"/>
            <a:ext cx="82296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506520" y="334800"/>
            <a:ext cx="8637480" cy="12193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58560" y="1197000"/>
            <a:ext cx="87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7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Первая группа – </a:t>
            </a: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«</a:t>
            </a:r>
            <a:r>
              <a:rPr b="0" i="1" lang="ru-RU" sz="2000" spc="-1" strike="noStrike">
                <a:solidFill>
                  <a:srgbClr val="424456"/>
                </a:solidFill>
                <a:latin typeface="Georgia"/>
              </a:rPr>
              <a:t>Руководители»</a:t>
            </a: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(администрация школы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17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Вторая группа – </a:t>
            </a: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«</a:t>
            </a:r>
            <a:r>
              <a:rPr b="0" i="1" lang="ru-RU" sz="2000" spc="-1" strike="noStrike">
                <a:solidFill>
                  <a:srgbClr val="424456"/>
                </a:solidFill>
                <a:latin typeface="Georgia"/>
              </a:rPr>
              <a:t>Учителя»</a:t>
            </a: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(МО учителей естественно-математического цикла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17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Третья группа – </a:t>
            </a: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«</a:t>
            </a:r>
            <a:r>
              <a:rPr b="0" i="1" lang="ru-RU" sz="2000" spc="-1" strike="noStrike">
                <a:solidFill>
                  <a:srgbClr val="424456"/>
                </a:solidFill>
                <a:latin typeface="Georgia"/>
              </a:rPr>
              <a:t>Родители»</a:t>
            </a: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(МО учителей гуманитарного цикл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17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Четвертая группа – </a:t>
            </a: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«</a:t>
            </a:r>
            <a:r>
              <a:rPr b="0" i="1" lang="ru-RU" sz="2000" spc="-1" strike="noStrike">
                <a:solidFill>
                  <a:srgbClr val="424456"/>
                </a:solidFill>
                <a:latin typeface="Georgia"/>
              </a:rPr>
              <a:t>Учащиеся»</a:t>
            </a: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(МО учителей художественно-эстетического цикла, физической культуры и начальных классов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17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24456"/>
                </a:solidFill>
                <a:latin typeface="Georgia"/>
              </a:rPr>
              <a:t>План работы в группе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17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1. В течение 10 минут каждой группе предстоит выработать рекомендации для внесения корректив в работу образовательного учреждения: </a:t>
            </a:r>
            <a:r>
              <a:rPr b="0" i="1" lang="ru-RU" sz="2000" spc="-1" strike="noStrike">
                <a:solidFill>
                  <a:srgbClr val="424456"/>
                </a:solidFill>
                <a:latin typeface="Georgia"/>
              </a:rPr>
              <a:t>какие действия следует предпринимать учащимся, их родителям, учителям и администрации школы, чтобы повысить эффективность работы со слабоуспевающими учащимися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17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2. Все предложения фиксируются:   «Работа с учащимися»,   «Работа с родителями»,   «Работа с педагогами»,  «Организационно-административная работа».   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17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3. Полученные записи комментируются, к ним делают необходимые добавления, осуществляется перестановка некоторых пунктов.       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68360" y="2060640"/>
            <a:ext cx="822960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сновная идея Педагогического Совет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Человек только тогда прилагает усилия, когда его побуждают к этому его желания. Когда они дремлют и ничто их не возбуждает, его превосходные качества и способности никогда не будут раскрыты.»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Б. Мандевил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Заголовок 1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13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Схема 16" descr=""/>
          <p:cNvPicPr/>
          <p:nvPr/>
        </p:nvPicPr>
        <p:blipFill>
          <a:blip r:embed="rId1"/>
          <a:stretch/>
        </p:blipFill>
        <p:spPr>
          <a:xfrm>
            <a:off x="639720" y="639720"/>
            <a:ext cx="82296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706320" y="1268280"/>
            <a:ext cx="7877160" cy="30225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ребёнок"/>
          <p:cNvPicPr/>
          <p:nvPr/>
        </p:nvPicPr>
        <p:blipFill>
          <a:blip r:embed="rId2"/>
          <a:stretch/>
        </p:blipFill>
        <p:spPr>
          <a:xfrm>
            <a:off x="324000" y="4292640"/>
            <a:ext cx="2430360" cy="2305080"/>
          </a:xfrm>
          <a:prstGeom prst="rect">
            <a:avLst/>
          </a:prstGeom>
          <a:ln w="76320">
            <a:solidFill>
              <a:srgbClr val="42445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08000" y="162828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Georgia"/>
              </a:rPr>
              <a:t>Учителям-предметникам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результатов контрольно-диагностических работ выявить в каждом классе неуспевающих и слабоуспевающих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 причину неуспеваемости (анкетирование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списки слабоуспевающих и неуспевающих по классам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ученика составить мониторинговую карту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для учащихся и их родителей рекомендации по устранению пробелов  и задания для самостоятельной работы на летний период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ланировании урока осуществлять дифференцированный подход в обучени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для вышеназванной категории детей  средства обучения, направленные на лучшее восприятие знаний (карточки-сигналы, алгоритмы, опорные конспекты  и т.д.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2" name="Схема 3" descr=""/>
          <p:cNvPicPr/>
          <p:nvPr/>
        </p:nvPicPr>
        <p:blipFill>
          <a:blip r:embed="rId1"/>
          <a:stretch/>
        </p:blipFill>
        <p:spPr>
          <a:xfrm>
            <a:off x="828720" y="476280"/>
            <a:ext cx="82296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108000" y="162828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Georgia"/>
              </a:rPr>
              <a:t>Классным руководителям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оспись ознакомить учащихся и их родителей с рекомендациями по устранению пробелов в знаниях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контроль за посещением учащимися индивидуально-групповых занятий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Georgia"/>
              </a:rPr>
              <a:t>Руководителям МО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седаниях МО  рассмотреть вопрос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тоды и формы работы со слабоуспевающими и неуспевающими»; «Применение ИКТ в работе со слабоуспевающими и неуспевающими»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ифференцированный подход в обучении предмета» и т.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 Разработать единую форму мониторинговой карты с учётом особенностей предмет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единые рекомендации  учителю-предметнику по работе со слабоуспевающими по каждому предмету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обобщение положительного опыта учителей в работе со слабоуспевающи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Схема 3" descr=""/>
          <p:cNvPicPr/>
          <p:nvPr/>
        </p:nvPicPr>
        <p:blipFill>
          <a:blip r:embed="rId1"/>
          <a:stretch/>
        </p:blipFill>
        <p:spPr>
          <a:xfrm>
            <a:off x="828720" y="476280"/>
            <a:ext cx="82296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08000" y="162828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Заместителям директор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онтролировать  исполнение членами педагогического коллектива вышеназванных мер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контроля  оформить в виде аналитической справк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проведение индивидуальных занятий со слабоуспевающими и неуспевающими учащимис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ланировании методической и учебно-воспитательной работы акцентировать внимание на вопросах качества преподавания учебных предметов, работе со слабоуспевающими и их родителями, качестве работы учителя по подготовке учащихся к государственной итоговой аттестаци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6" name="Схема 3" descr=""/>
          <p:cNvPicPr/>
          <p:nvPr/>
        </p:nvPicPr>
        <p:blipFill>
          <a:blip r:embed="rId1"/>
          <a:stretch/>
        </p:blipFill>
        <p:spPr>
          <a:xfrm>
            <a:off x="828720" y="476280"/>
            <a:ext cx="82296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469800" y="1195560"/>
            <a:ext cx="84186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Содержимое 5" descr=""/>
          <p:cNvPicPr/>
          <p:nvPr/>
        </p:nvPicPr>
        <p:blipFill>
          <a:blip r:embed="rId1"/>
          <a:stretch/>
        </p:blipFill>
        <p:spPr>
          <a:xfrm>
            <a:off x="665280" y="981000"/>
            <a:ext cx="788832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50560" y="2060640"/>
            <a:ext cx="871380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45720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собенност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слабоуспевающих и неуспевающих школьнико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ичин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проявления отставания и неуспеваемост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офилакти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неуспеваемост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едагогически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помогающие учителю в работе со слабоуспевающими и неуспевающими учениками, а также для профилактики неуспеваемост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Заголовок 1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13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" name="Схема 16" descr=""/>
          <p:cNvPicPr/>
          <p:nvPr/>
        </p:nvPicPr>
        <p:blipFill>
          <a:blip r:embed="rId1"/>
          <a:stretch/>
        </p:blipFill>
        <p:spPr>
          <a:xfrm>
            <a:off x="639720" y="639720"/>
            <a:ext cx="82296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68360" y="177336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Слабоуспевающим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ринято считать учащихся, которые имеют слабые умственные способности и слабые учебные умения и навыки, низкий уровень памяти или те, у которых отсутствуют действенные мотивы уч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Особенности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изкий уровень знаний, как следствие этого низкий уровень интеллектуального развития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тсутствие познавательного интереса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сформированы элементарные организационные навыки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чащиеся требуют индивидуального подхода с психологической и педагогической (в плане обучения) точки зрения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т опоры на родителей как союзников учителя – предметника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ети, в основном, из асоциальных семей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тсутствие адекватной самооценки со стороны учащихся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частые пропуски уроков без уважительной причины, что приводит к отсутствию системы в знаниях и как следствие этого - низкий уровень интеллект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2" name="Схема 3" descr=""/>
          <p:cNvPicPr/>
          <p:nvPr/>
        </p:nvPicPr>
        <p:blipFill>
          <a:blip r:embed="rId1"/>
          <a:stretch/>
        </p:blipFill>
        <p:spPr>
          <a:xfrm>
            <a:off x="755640" y="401760"/>
            <a:ext cx="82296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07640" y="181728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. Низкий уровень умственного развит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ичины: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едагогическая запущенность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астые заболевания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пуски занятий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рганические нарушения центральной нервной системы и головного мозг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оявляется в неумении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станавливать причинно-следственные связ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читывать все признаки предмета или явления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идеть общее и. д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4" name="Схема 3" descr=""/>
          <p:cNvPicPr/>
          <p:nvPr/>
        </p:nvPicPr>
        <p:blipFill>
          <a:blip r:embed="rId1"/>
          <a:stretch/>
        </p:blipFill>
        <p:spPr>
          <a:xfrm>
            <a:off x="914400" y="549360"/>
            <a:ext cx="82296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07640" y="181728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. Несформированность учебных навык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Ребенок не умеет учиться: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ть с текстом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делять главное, существенное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 может организовать свое время и распределить усилия и т. д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3. Дефицит внимания с гиперактивностью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Характеризуется: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влекаемостью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вижностью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усидчивостью и т. д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6" name="Схема 3" descr=""/>
          <p:cNvPicPr/>
          <p:nvPr/>
        </p:nvPicPr>
        <p:blipFill>
          <a:blip r:embed="rId1"/>
          <a:stretch/>
        </p:blipFill>
        <p:spPr>
          <a:xfrm>
            <a:off x="914400" y="549360"/>
            <a:ext cx="82296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0" y="1699920"/>
            <a:ext cx="91440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4. Отсутствие познавательного интерес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бусловлено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 ребенком никто не занимался, не развивал его познавательные способности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му мало что интересно, он не посещает кружки и секции, не читает книг, а предпочитает пустое время препровождени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5. Несформированность произвольной сферы: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является в том, что ученик делает то, что ему нравится и не способен прилагать волевые усилия для выполнения учебных задач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8" name="Схема 3" descr=""/>
          <p:cNvPicPr/>
          <p:nvPr/>
        </p:nvPicPr>
        <p:blipFill>
          <a:blip r:embed="rId1"/>
          <a:stretch/>
        </p:blipFill>
        <p:spPr>
          <a:xfrm>
            <a:off x="914400" y="549360"/>
            <a:ext cx="82296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16:56:43Z</dcterms:created>
  <dc:creator>User</dc:creator>
  <dc:description/>
  <dc:language>en-US</dc:language>
  <cp:lastModifiedBy>Teacher_2</cp:lastModifiedBy>
  <dcterms:modified xsi:type="dcterms:W3CDTF">2024-12-02T14:37:28Z</dcterms:modified>
  <cp:revision>62</cp:revision>
  <dc:subject/>
  <dc:title>Слайд 1</dc:title>
</cp:coreProperties>
</file>