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9.png" ContentType="image/png"/>
  <Override PartName="/ppt/media/image8.png" ContentType="image/png"/>
  <Override PartName="/ppt/media/image14.jpeg" ContentType="image/jpeg"/>
  <Override PartName="/ppt/media/image7.wmf" ContentType="image/x-wmf"/>
  <Override PartName="/ppt/media/image12.png" ContentType="image/png"/>
  <Override PartName="/ppt/media/image20.jpeg" ContentType="image/jpeg"/>
  <Override PartName="/ppt/media/image19.png" ContentType="image/png"/>
  <Override PartName="/ppt/media/image1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3.jpeg" ContentType="image/jpeg"/>
  <Override PartName="/ppt/media/image15.png" ContentType="image/png"/>
  <Override PartName="/ppt/media/image2.jpeg" ContentType="image/jpeg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1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</p:sldIdLst>
  <p:sldSz cx="9144000" cy="6858000"/>
  <p:notesSz cx="6883400" cy="10004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/>
          <p:nvPr/>
        </p:nvSpPr>
        <p:spPr>
          <a:xfrm>
            <a:off x="0" y="0"/>
            <a:ext cx="6883200" cy="1000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296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 type="dt" idx="37"/>
          </p:nvPr>
        </p:nvSpPr>
        <p:spPr>
          <a:xfrm>
            <a:off x="3900240" y="-360"/>
            <a:ext cx="298116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 type="sldImg"/>
          </p:nvPr>
        </p:nvSpPr>
        <p:spPr>
          <a:xfrm>
            <a:off x="942840" y="750960"/>
            <a:ext cx="4997520" cy="3749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6480" rIns="96480" tIns="48240" bIns="482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 type="body"/>
          </p:nvPr>
        </p:nvSpPr>
        <p:spPr>
          <a:xfrm>
            <a:off x="917640" y="4751280"/>
            <a:ext cx="5046480" cy="45007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 type="ftr" idx="38"/>
          </p:nvPr>
        </p:nvSpPr>
        <p:spPr>
          <a:xfrm>
            <a:off x="0" y="9502560"/>
            <a:ext cx="298296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6"/>
          <p:cNvSpPr>
            <a:spLocks noGrp="1"/>
          </p:cNvSpPr>
          <p:nvPr>
            <p:ph type="sldNum" idx="39"/>
          </p:nvPr>
        </p:nvSpPr>
        <p:spPr>
          <a:xfrm>
            <a:off x="3900240" y="9502560"/>
            <a:ext cx="298116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F442E-DDBF-414D-9EED-0FBA20B58C1A}" type="slidenum"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7"/>
          <p:cNvSpPr/>
          <p:nvPr/>
        </p:nvSpPr>
        <p:spPr>
          <a:xfrm>
            <a:off x="3900600" y="9502920"/>
            <a:ext cx="29811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8F465-7AC7-4E7E-A23C-19FDE22700EC}" type="slidenum">
              <a:rPr b="0" lang="ru-RU" sz="13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942840" y="750960"/>
            <a:ext cx="4997520" cy="374976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917640" y="4751280"/>
            <a:ext cx="5046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942840" y="750960"/>
            <a:ext cx="4997520" cy="374976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917640" y="4751280"/>
            <a:ext cx="5046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Номер слайда 3"/>
          <p:cNvSpPr/>
          <p:nvPr/>
        </p:nvSpPr>
        <p:spPr>
          <a:xfrm>
            <a:off x="3900600" y="9502920"/>
            <a:ext cx="29811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E0ED9-6A17-4A59-B567-5FCE0F42C339}" type="slidenum">
              <a:rPr b="0" lang="ru-RU" sz="13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sldImg"/>
          </p:nvPr>
        </p:nvSpPr>
        <p:spPr>
          <a:xfrm>
            <a:off x="942840" y="750960"/>
            <a:ext cx="4997520" cy="3749760"/>
          </a:xfrm>
          <a:prstGeom prst="rect">
            <a:avLst/>
          </a:prstGeom>
          <a:ln w="0">
            <a:noFill/>
          </a:ln>
        </p:spPr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917640" y="4751280"/>
            <a:ext cx="5046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Номер слайда 3"/>
          <p:cNvSpPr/>
          <p:nvPr/>
        </p:nvSpPr>
        <p:spPr>
          <a:xfrm>
            <a:off x="3900600" y="9502920"/>
            <a:ext cx="29811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E3D22-A3D9-40F5-9E5C-8711FD44B1DF}" type="slidenum">
              <a:rPr b="0" lang="ru-RU" sz="13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942840" y="750960"/>
            <a:ext cx="4997520" cy="374976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917640" y="4751280"/>
            <a:ext cx="5046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Номер слайда 3"/>
          <p:cNvSpPr/>
          <p:nvPr/>
        </p:nvSpPr>
        <p:spPr>
          <a:xfrm>
            <a:off x="3900600" y="9502920"/>
            <a:ext cx="29811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A32C7-651C-4E6C-99E4-1632A70A1EB7}" type="slidenum">
              <a:rPr b="0" lang="ru-RU" sz="13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E5C2-16D5-4D77-B518-669EA00C3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5917-98B5-45B2-B161-6CA92D36D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E92F27-63DD-41EB-B5DC-B1E43290E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6CF069-4343-45E7-89F3-CFB074F55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1AFC35-631E-47AD-AEB3-3C718DD48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DDC203-99EA-4450-AEB7-0274551AF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18DD2A-1FA8-4CDB-862A-79435708B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ECEA2D-80FB-447C-847D-6A00A3DED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E1864F-5C17-47B5-903B-A60CED3FD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CAE76F-F6C5-46D8-AB0A-64D1457FC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E869D2-E9AE-4453-972B-F1D558F62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A91A10-3972-4DDF-9187-D0E48670A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8930-BCC7-4EA1-950C-23C875D31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53E290-39E8-40A0-AEF2-C37D2C1F0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1CA71B-895D-46B6-9769-9F63EC15B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F0BB34-5EA4-4F00-955D-439DE4A62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74E21C-08B8-4513-BEDF-7A3A9DAD7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C45F9E-6F09-489E-AD9D-523ED7CD0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132FBB-F90F-4C45-B266-083AD47CA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B68DA6-9350-4F0A-AD41-EAAB302D2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79AD52-E709-4BF4-9778-876C7C957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3A4BB2-9580-4413-8037-7A6B0E8E0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4E1A2E-B87A-41E3-BD6D-1EBEBFC5D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9A6B-202F-48BE-956B-9736DD96E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7F12A3-522F-4726-AF3E-6814CE161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36615B-F8FC-42F2-9953-CE84CCF95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24DC60-E222-40AE-945C-6A0DC1AF5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A3662D-FE7D-4073-B662-DE5FF4C27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C9E7CD-A2A2-4842-ADC2-84B8E75C8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D24274-71AB-4A9F-89AB-9EB707D51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444CDB-4948-41EA-B7F0-67B5F6AE9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3AE2F2-9111-49A0-A67C-930705C4A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A11A2C-78F2-46CE-9733-E88592409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784FB5-519E-4757-A23C-7CD676392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6D3F2-992E-42F4-85DA-66D59356C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9955E9-DDA6-49EC-8895-01F9562EE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A0BDC7-B087-406B-A298-9D1E94387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11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12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9E902C-6FF6-44C0-AC16-484A1EFE1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4A290B-6A84-4DEF-B1A1-9AE1AB80D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B75C7F-839C-4707-85B6-61C773F31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1F94DD-0588-4C99-B3ED-19AF6739C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2F6EDC-ECE4-47FF-9C07-7396BE73D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AC1ED8-6C1C-40B8-A86F-65BE73889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1BDB46-58E0-48A7-AFDE-7887BB2B8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B5E5E4-C4A7-4433-95D8-E028A0CC9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323EF-B7CF-4D3D-A03F-43756B4E9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DF2A61-0ECE-46BB-9ABA-BFF23A634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D080EA-D600-4998-B562-73DDAAA76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ED9A41-C1A6-4A68-A3B0-8E92A56B4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5B2D46-5F77-4B26-BFD1-339196F7D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6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6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2A5EB1-D307-4239-AB9C-BF6684CFA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03F89-E3BF-406D-AAA6-3DE2A4F76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75FBE-3576-4214-AB26-F043E65BE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34719-CD55-4E13-9164-8875FDE7C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BE6CE-791B-4257-811B-CB3253C29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559AE-2CAB-42F1-A4F1-4AB02981A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6C5C-FA82-4942-AC0E-9C024BAE1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AD41B-02DA-4F30-A8BF-BEAD99129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77E97-5AFB-4913-843F-C59C613FD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75C1D-82B7-4B40-A6E4-9EA642DD2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6D49F-F83B-4E88-AFD9-CF9B463CE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9E6F9-C63D-44E3-A488-385FB80C8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1BDC8C-9890-4484-B972-DBA7C6EB9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1CD7C5-7A77-4344-989A-098E4868F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9983B3-C57D-497D-9B23-78117CEFC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15BEF5-2A3A-4F7A-A626-BA938A248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3B9E42-B74A-4539-8BCE-8900CCBD8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8F87-732A-439F-90F8-387DE3F71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4F9FCE-CBCF-46D6-A947-C732DC33E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41A536-1B35-49A0-BE66-457709E95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FDC2A3-D3A6-48F1-9763-69C2B5270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02B6AD-4ED5-4782-A31D-E8BF8FAC9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092243-71DE-4282-86AB-03D885A9F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326221-D49B-4D3C-9B9D-7A036BC72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86F4A6-F651-45BA-9EBB-B331860CF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25E9FF-289A-466E-A548-C0B03E2E2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5DA562-B7A4-4AC5-933C-5532A32AE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ACD245-57B1-486E-ACF5-CDA46CA54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AA51-85DF-4F31-B111-714B752FB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620FB2-9C8E-4B6C-ADC1-0091053F7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6E658C-00BE-482A-B5FF-AB1AF71C7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0C9462-0BC0-4407-B3A6-6B6AAC994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D591C7-DDA0-4D8B-8371-10C442A07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DD5D7E-A124-420C-94C2-6A4E1A724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04C286-7DF7-4CB2-947C-EA587B0A0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90C986-AAA4-4E53-8132-C21E23A35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4D7A6C-1033-4B34-A27D-922C705A2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A63D9D-4A06-4881-B86A-08D8422D3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AFA925-C9CE-4127-AE29-A9ECB5BBD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2D6A-5B5E-4035-BB5B-77595DD1C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4BF2A9-479D-4E5C-BF99-F4DE65753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1F4211-480D-4810-A8A3-26DB381FA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2DF8AF-6454-41C7-BF3F-F1002D9B1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4F8522-014C-4E42-B363-64AF67C29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B54BB4-D09C-4CA9-8972-A2952CBDD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2FA5D2-4527-42FF-A0F9-7C7E04561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3842C0-0CBD-4EDD-9E0C-E4B00465B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34D2F8-24E0-427A-9403-E684BC603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64B381-ED4C-47D8-8D2B-F0DB35763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E88B8A-A792-4876-AC5C-0740C9FE7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0FCB-F602-45E2-BDE5-47B3081AD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00D954-1975-4822-B7A7-141253EED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00E0CA-C57E-4FC5-8E92-99DEEFDD4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35ACFB-68AD-4F47-823B-AD0C6A1F5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FAAC37-5057-41A1-8722-57FE7097D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B4895A-FB41-4EF9-BB00-D7EF85E6B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AF3671-38A2-4B14-9414-8C5185B0E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D073C1-58EE-4EF6-8940-9EC82A784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87BB17-E180-4D1C-BEDB-FB84B322E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AC588C-BAE1-443A-9AB6-D24F3DCD7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45523C-9D92-4230-881F-B8707820B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5E8F-CEA3-4AE5-A647-8A79AB7A0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6D73C8-87DE-4B28-A7CE-A1EC41334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A40C4A-5B92-49DE-97DA-534943AB8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0C8932-7942-43BF-97D2-4F3539098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273450-A6A0-4CBA-AFD0-2F763ED28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7442CE-F297-4241-980E-1FA390A1D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3B3DC3-0483-4D0F-9745-41BB9DA89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681AB2-8E64-49F5-B9F9-38E5ECF94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BAB4B7-04A5-4B97-92F8-C87F74F8E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CF851A-D197-4D1D-84FF-F51788A6D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560C62-81FA-4A4A-9510-47D729281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9C09-3F16-460C-A84A-76734DBC5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038E69-4811-4990-B8C0-DBEF159F3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CAD973-5244-4D1A-9795-E01F62A4C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CD349C-CDF4-4695-BF1B-35F729AD7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DC1F91-AC77-479D-A2F1-5A73258B2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46274A-11B1-4353-A667-99D637898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D5980F-E1F3-4396-ACC3-805FB10F4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5CEF1D-B41A-4486-9405-9F6F5D4F2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0A1FD6-A51B-42F6-9153-6FE38B26A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DEC703-DA95-4302-9C78-2ED7D5F33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2071C9-7CB1-40AD-B3E8-79A263B3A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7BFE-B1BC-44CD-BF00-2FCA55A8B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834B7D-5C05-4939-A885-C7561F2FB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9D18D3-E7D0-42AE-B5DA-3DEFA2365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A6FBB5-6CE5-414D-B40E-71D3C2760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5DB52D-FE46-4621-AD69-5588AF056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5C3435-31DD-47F2-A526-2FE5808A4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7DB01C-A907-4567-ACAE-858A77D94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79A714-FDFB-4308-B460-B05146FD3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DC59D9-0317-4859-A50F-700927DF5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4C474B-91CD-4CD7-867F-2E4BD8ACE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1E7CC6-DE39-43AB-8481-3EA48C3B6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FE6D6-027D-4051-A28C-153689392105}" type="slidenum">
              <a:rPr b="0" lang="ru-RU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1031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Rectangle 1032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Rectangle 1033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Group 1034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Rectangle 1035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Rectangle 1036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Group 1037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Rectangle 1038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Rectangle 1039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Group 1040"/>
          <p:cNvGrpSpPr/>
          <p:nvPr/>
        </p:nvGrpSpPr>
        <p:grpSpPr>
          <a:xfrm>
            <a:off x="76320" y="176040"/>
            <a:ext cx="8745120" cy="161640"/>
            <a:chOff x="76320" y="176040"/>
            <a:chExt cx="8745120" cy="161640"/>
          </a:xfrm>
        </p:grpSpPr>
        <p:sp>
          <p:nvSpPr>
            <p:cNvPr id="15" name="Rectangle 1041"/>
            <p:cNvSpPr/>
            <p:nvPr/>
          </p:nvSpPr>
          <p:spPr>
            <a:xfrm flipV="1" rot="5400000">
              <a:off x="4529520" y="-3954240"/>
              <a:ext cx="59040" cy="85248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Rectangle 1042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Group 1043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Rectangle 1044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Rectangle 1045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1" name="Group 1031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02" name="Rectangle 1032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03" name="Rectangle 1033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504" name="Group 1034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505" name="Rectangle 1035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06" name="Rectangle 1036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507" name="Group 1037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508" name="Rectangle 1038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09" name="Rectangle 1039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510" name="Group 1040"/>
          <p:cNvGrpSpPr/>
          <p:nvPr/>
        </p:nvGrpSpPr>
        <p:grpSpPr>
          <a:xfrm>
            <a:off x="76320" y="176040"/>
            <a:ext cx="8745120" cy="161640"/>
            <a:chOff x="76320" y="176040"/>
            <a:chExt cx="8745120" cy="161640"/>
          </a:xfrm>
        </p:grpSpPr>
        <p:sp>
          <p:nvSpPr>
            <p:cNvPr id="511" name="Rectangle 1041"/>
            <p:cNvSpPr/>
            <p:nvPr/>
          </p:nvSpPr>
          <p:spPr>
            <a:xfrm flipV="1" rot="5400000">
              <a:off x="4529520" y="-3954240"/>
              <a:ext cx="59040" cy="85248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12" name="Rectangle 1042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513" name="Group 1043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514" name="Rectangle 1044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15" name="Rectangle 1045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 type="dt" idx="28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 type="ftr" idx="29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 type="sldNum" idx="30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D8CFB-CC89-4807-A8D0-0868CAB71322}" type="slidenum">
              <a:rPr b="0" lang="ru-RU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7" name="Group 1031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58" name="Rectangle 1032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59" name="Rectangle 1033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560" name="Group 1034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561" name="Rectangle 1035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62" name="Rectangle 1036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563" name="Group 1037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564" name="Rectangle 1038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65" name="Rectangle 1039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566" name="Group 1040"/>
          <p:cNvGrpSpPr/>
          <p:nvPr/>
        </p:nvGrpSpPr>
        <p:grpSpPr>
          <a:xfrm>
            <a:off x="76320" y="176040"/>
            <a:ext cx="8745120" cy="161640"/>
            <a:chOff x="76320" y="176040"/>
            <a:chExt cx="8745120" cy="161640"/>
          </a:xfrm>
        </p:grpSpPr>
        <p:sp>
          <p:nvSpPr>
            <p:cNvPr id="567" name="Rectangle 1041"/>
            <p:cNvSpPr/>
            <p:nvPr/>
          </p:nvSpPr>
          <p:spPr>
            <a:xfrm flipV="1" rot="5400000">
              <a:off x="4529520" y="-3954240"/>
              <a:ext cx="59040" cy="85248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68" name="Rectangle 1042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569" name="Group 1043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570" name="Rectangle 1044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71" name="Rectangle 1045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 type="dt" idx="3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 type="ftr" idx="3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 type="sldNum" idx="3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3E7FC-9B7B-4292-ACBC-6BF0E0AD700A}" type="slidenum">
              <a:rPr b="0" lang="ru-RU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3" name="Group 1031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14" name="Rectangle 1032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15" name="Rectangle 1033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16" name="Group 1034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7" name="Rectangle 1035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18" name="Rectangle 1036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19" name="Group 1037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20" name="Rectangle 1038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1" name="Rectangle 1039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22" name="Group 1040"/>
          <p:cNvGrpSpPr/>
          <p:nvPr/>
        </p:nvGrpSpPr>
        <p:grpSpPr>
          <a:xfrm>
            <a:off x="76320" y="176040"/>
            <a:ext cx="8745120" cy="161640"/>
            <a:chOff x="76320" y="176040"/>
            <a:chExt cx="8745120" cy="161640"/>
          </a:xfrm>
        </p:grpSpPr>
        <p:sp>
          <p:nvSpPr>
            <p:cNvPr id="623" name="Rectangle 1041"/>
            <p:cNvSpPr/>
            <p:nvPr/>
          </p:nvSpPr>
          <p:spPr>
            <a:xfrm flipV="1" rot="5400000">
              <a:off x="4529520" y="-3954240"/>
              <a:ext cx="59040" cy="85248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4" name="Rectangle 1042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25" name="Group 1043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626" name="Rectangle 1044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7" name="Rectangle 1045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 type="dt" idx="3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 type="ftr" idx="3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 type="sldNum" idx="3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7951E-E42C-49BE-9551-6CFD3167582E}" type="slidenum">
              <a:rPr b="0" lang="ru-RU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2052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7" name="Rectangle 2053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8" name="Rectangle 2054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59" name="Group 2055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0" name="Rectangle 2056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1" name="Rectangle 2057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2" name="Group 2058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3" name="Rectangle 2059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4" name="Rectangle 2060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5" name="Group 2061"/>
          <p:cNvGrpSpPr/>
          <p:nvPr/>
        </p:nvGrpSpPr>
        <p:grpSpPr>
          <a:xfrm>
            <a:off x="76320" y="176040"/>
            <a:ext cx="8745120" cy="161640"/>
            <a:chOff x="76320" y="176040"/>
            <a:chExt cx="8745120" cy="161640"/>
          </a:xfrm>
        </p:grpSpPr>
        <p:sp>
          <p:nvSpPr>
            <p:cNvPr id="66" name="Rectangle 2062"/>
            <p:cNvSpPr/>
            <p:nvPr/>
          </p:nvSpPr>
          <p:spPr>
            <a:xfrm flipV="1" rot="5400000">
              <a:off x="4529520" y="-3954240"/>
              <a:ext cx="59040" cy="85248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7" name="Rectangle 2063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4E2AD-F4F8-4C77-8786-E02DA46CB11A}" type="slidenum">
              <a:rPr b="0" lang="ru-RU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Group 1031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110" name="Rectangle 1032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11" name="Rectangle 1033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2" name="Group 1034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113" name="Rectangle 1035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14" name="Rectangle 1036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5" name="Group 1037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16" name="Rectangle 1038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17" name="Rectangle 1039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8" name="Group 1040"/>
          <p:cNvGrpSpPr/>
          <p:nvPr/>
        </p:nvGrpSpPr>
        <p:grpSpPr>
          <a:xfrm>
            <a:off x="76320" y="176040"/>
            <a:ext cx="8745120" cy="161640"/>
            <a:chOff x="76320" y="176040"/>
            <a:chExt cx="8745120" cy="161640"/>
          </a:xfrm>
        </p:grpSpPr>
        <p:sp>
          <p:nvSpPr>
            <p:cNvPr id="119" name="Rectangle 1041"/>
            <p:cNvSpPr/>
            <p:nvPr/>
          </p:nvSpPr>
          <p:spPr>
            <a:xfrm flipV="1" rot="5400000">
              <a:off x="4529520" y="-3954240"/>
              <a:ext cx="59040" cy="85248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20" name="Rectangle 1042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21" name="Group 1043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22" name="Rectangle 1044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23" name="Rectangle 1045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7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8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9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9D644-190F-4BAD-A8C6-17EA03C1F2EB}" type="slidenum">
              <a:rPr b="0" lang="ru-RU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Group 1031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166" name="Rectangle 1032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7" name="Rectangle 1033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68" name="Group 1034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169" name="Rectangle 1035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70" name="Rectangle 1036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1" name="Group 1037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72" name="Rectangle 1038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73" name="Rectangle 1039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4" name="Group 1040"/>
          <p:cNvGrpSpPr/>
          <p:nvPr/>
        </p:nvGrpSpPr>
        <p:grpSpPr>
          <a:xfrm>
            <a:off x="76320" y="176040"/>
            <a:ext cx="8745120" cy="161640"/>
            <a:chOff x="76320" y="176040"/>
            <a:chExt cx="8745120" cy="161640"/>
          </a:xfrm>
        </p:grpSpPr>
        <p:sp>
          <p:nvSpPr>
            <p:cNvPr id="175" name="Rectangle 1041"/>
            <p:cNvSpPr/>
            <p:nvPr/>
          </p:nvSpPr>
          <p:spPr>
            <a:xfrm flipV="1" rot="5400000">
              <a:off x="4529520" y="-3954240"/>
              <a:ext cx="59040" cy="85248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76" name="Rectangle 1042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7" name="Group 1043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78" name="Rectangle 1044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79" name="Rectangle 1045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0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1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2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ADE48-1B8C-4BDD-BDD6-F5496F16B9FC}" type="slidenum">
              <a:rPr b="0" lang="ru-RU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Group 1031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222" name="Rectangle 1032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23" name="Rectangle 1033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224" name="Group 1034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225" name="Rectangle 1035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26" name="Rectangle 1036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227" name="Group 1037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228" name="Rectangle 1038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29" name="Rectangle 1039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230" name="Group 1040"/>
          <p:cNvGrpSpPr/>
          <p:nvPr/>
        </p:nvGrpSpPr>
        <p:grpSpPr>
          <a:xfrm>
            <a:off x="76320" y="176040"/>
            <a:ext cx="8745120" cy="161640"/>
            <a:chOff x="76320" y="176040"/>
            <a:chExt cx="8745120" cy="161640"/>
          </a:xfrm>
        </p:grpSpPr>
        <p:sp>
          <p:nvSpPr>
            <p:cNvPr id="231" name="Rectangle 1041"/>
            <p:cNvSpPr/>
            <p:nvPr/>
          </p:nvSpPr>
          <p:spPr>
            <a:xfrm flipV="1" rot="5400000">
              <a:off x="4529520" y="-3954240"/>
              <a:ext cx="59040" cy="85248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32" name="Rectangle 1042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233" name="Group 1043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234" name="Rectangle 1044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35" name="Rectangle 1045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dt" idx="13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ftr" idx="14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 type="sldNum" idx="15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E1898-8A76-425C-87EA-76AE42291EBA}" type="slidenum">
              <a:rPr b="0" lang="ru-RU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7" name="Group 1031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278" name="Rectangle 1032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79" name="Rectangle 1033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280" name="Group 1034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281" name="Rectangle 1035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82" name="Rectangle 1036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283" name="Group 1037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284" name="Rectangle 1038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85" name="Rectangle 1039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286" name="Group 1040"/>
          <p:cNvGrpSpPr/>
          <p:nvPr/>
        </p:nvGrpSpPr>
        <p:grpSpPr>
          <a:xfrm>
            <a:off x="76320" y="176040"/>
            <a:ext cx="8745120" cy="161640"/>
            <a:chOff x="76320" y="176040"/>
            <a:chExt cx="8745120" cy="161640"/>
          </a:xfrm>
        </p:grpSpPr>
        <p:sp>
          <p:nvSpPr>
            <p:cNvPr id="287" name="Rectangle 1041"/>
            <p:cNvSpPr/>
            <p:nvPr/>
          </p:nvSpPr>
          <p:spPr>
            <a:xfrm flipV="1" rot="5400000">
              <a:off x="4529520" y="-3954240"/>
              <a:ext cx="59040" cy="85248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88" name="Rectangle 1042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289" name="Group 1043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290" name="Rectangle 1044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91" name="Rectangle 1045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16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 type="ftr" idx="17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 type="sldNum" idx="18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4847E-09D3-42D9-A584-2D82699A3045}" type="slidenum">
              <a:rPr b="0" lang="ru-RU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3" name="Group 1031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334" name="Rectangle 1032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35" name="Rectangle 1033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336" name="Group 1034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337" name="Rectangle 1035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38" name="Rectangle 1036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339" name="Group 1037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340" name="Rectangle 1038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41" name="Rectangle 1039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342" name="Group 1040"/>
          <p:cNvGrpSpPr/>
          <p:nvPr/>
        </p:nvGrpSpPr>
        <p:grpSpPr>
          <a:xfrm>
            <a:off x="76320" y="176040"/>
            <a:ext cx="8745120" cy="161640"/>
            <a:chOff x="76320" y="176040"/>
            <a:chExt cx="8745120" cy="161640"/>
          </a:xfrm>
        </p:grpSpPr>
        <p:sp>
          <p:nvSpPr>
            <p:cNvPr id="343" name="Rectangle 1041"/>
            <p:cNvSpPr/>
            <p:nvPr/>
          </p:nvSpPr>
          <p:spPr>
            <a:xfrm flipV="1" rot="5400000">
              <a:off x="4529520" y="-3954240"/>
              <a:ext cx="59040" cy="85248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44" name="Rectangle 1042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345" name="Group 1043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346" name="Rectangle 1044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47" name="Rectangle 1045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19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20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21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3B9E9-850A-4F23-B68B-39FE7E600D59}" type="slidenum">
              <a:rPr b="0" lang="ru-RU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Group 1031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390" name="Rectangle 1032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91" name="Rectangle 1033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392" name="Group 1034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393" name="Rectangle 1035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94" name="Rectangle 1036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395" name="Group 1037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396" name="Rectangle 1038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97" name="Rectangle 1039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398" name="Group 1040"/>
          <p:cNvGrpSpPr/>
          <p:nvPr/>
        </p:nvGrpSpPr>
        <p:grpSpPr>
          <a:xfrm>
            <a:off x="76320" y="176040"/>
            <a:ext cx="8745120" cy="161640"/>
            <a:chOff x="76320" y="176040"/>
            <a:chExt cx="8745120" cy="161640"/>
          </a:xfrm>
        </p:grpSpPr>
        <p:sp>
          <p:nvSpPr>
            <p:cNvPr id="399" name="Rectangle 1041"/>
            <p:cNvSpPr/>
            <p:nvPr/>
          </p:nvSpPr>
          <p:spPr>
            <a:xfrm flipV="1" rot="5400000">
              <a:off x="4529520" y="-3954240"/>
              <a:ext cx="59040" cy="85248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00" name="Rectangle 1042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401" name="Group 1043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402" name="Rectangle 1044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03" name="Rectangle 1045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22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23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24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989D7-ECBF-417A-A9E3-A4EE58BDDA10}" type="slidenum">
              <a:rPr b="0" lang="ru-RU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5" name="Group 1031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446" name="Rectangle 1032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47" name="Rectangle 1033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448" name="Group 1034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449" name="Rectangle 1035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50" name="Rectangle 1036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451" name="Group 1037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452" name="Rectangle 1038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53" name="Rectangle 1039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454" name="Group 1040"/>
          <p:cNvGrpSpPr/>
          <p:nvPr/>
        </p:nvGrpSpPr>
        <p:grpSpPr>
          <a:xfrm>
            <a:off x="76320" y="176040"/>
            <a:ext cx="8745120" cy="161640"/>
            <a:chOff x="76320" y="176040"/>
            <a:chExt cx="8745120" cy="161640"/>
          </a:xfrm>
        </p:grpSpPr>
        <p:sp>
          <p:nvSpPr>
            <p:cNvPr id="455" name="Rectangle 1041"/>
            <p:cNvSpPr/>
            <p:nvPr/>
          </p:nvSpPr>
          <p:spPr>
            <a:xfrm flipV="1" rot="5400000">
              <a:off x="4529520" y="-3954240"/>
              <a:ext cx="59040" cy="85248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56" name="Rectangle 1042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457" name="Group 1043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458" name="Rectangle 1044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59" name="Rectangle 1045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dt" idx="25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ftr" idx="26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 type="sldNum" idx="27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A32AB-7362-439F-B4A0-3DE71CAC06B5}" type="slidenum">
              <a:rPr b="0" lang="ru-RU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Rectangle 10"/>
          <p:cNvSpPr/>
          <p:nvPr/>
        </p:nvSpPr>
        <p:spPr>
          <a:xfrm>
            <a:off x="755640" y="907920"/>
            <a:ext cx="784872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77" name="WordArt 11"/>
          <p:cNvSpPr txBox="1"/>
          <p:nvPr/>
        </p:nvSpPr>
        <p:spPr>
          <a:xfrm>
            <a:off x="1908000" y="2708280"/>
            <a:ext cx="5429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0" i="1" lang="en-US" sz="1800" spc="1" strike="noStrike">
              <a:ln w="9360">
                <a:solidFill>
                  <a:srgbClr val="80008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78" name="Rectangle 12"/>
          <p:cNvSpPr/>
          <p:nvPr/>
        </p:nvSpPr>
        <p:spPr>
          <a:xfrm>
            <a:off x="468360" y="3860640"/>
            <a:ext cx="819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Times New Roman"/>
              </a:rPr>
              <a:t>                                 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79" name="Прямоугольник 7"/>
          <p:cNvSpPr/>
          <p:nvPr/>
        </p:nvSpPr>
        <p:spPr>
          <a:xfrm>
            <a:off x="395280" y="4437000"/>
            <a:ext cx="8497800" cy="15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214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909144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«Взаимосвязь школы и семьи в профилактике безнадзорности и правонарушений несовершеннолетних»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214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909144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80" name="Прямоугольник 5"/>
          <p:cNvSpPr/>
          <p:nvPr/>
        </p:nvSpPr>
        <p:spPr>
          <a:xfrm>
            <a:off x="1187280" y="4076640"/>
            <a:ext cx="6693120" cy="5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214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909144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Родительское собрание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681" name="Picture 7" descr="H:\1368473066_0df8c04cf9.jpg"/>
          <p:cNvPicPr/>
          <p:nvPr/>
        </p:nvPicPr>
        <p:blipFill>
          <a:blip r:embed="rId1"/>
          <a:stretch/>
        </p:blipFill>
        <p:spPr>
          <a:xfrm>
            <a:off x="1633680" y="233280"/>
            <a:ext cx="5976720" cy="38894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Прямоугольник 2"/>
          <p:cNvSpPr/>
          <p:nvPr/>
        </p:nvSpPr>
        <p:spPr>
          <a:xfrm>
            <a:off x="611280" y="404640"/>
            <a:ext cx="7777080" cy="58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28760" indent="-324000" algn="ctr">
              <a:lnSpc>
                <a:spcPct val="95000"/>
              </a:lnSpc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Times New Roman"/>
              </a:rPr>
              <a:t>Права и обязанности родителей определены </a:t>
            </a:r>
            <a:r>
              <a:rPr b="0" lang="ru-RU" sz="2800" spc="-1" strike="noStrike">
                <a:solidFill>
                  <a:srgbClr val="0d0d0d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428760" indent="-324000">
              <a:lnSpc>
                <a:spcPct val="95000"/>
              </a:lnSpc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428760" indent="-324000">
              <a:lnSpc>
                <a:spcPct val="95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Times New Roman"/>
              </a:rPr>
              <a:t>В статьях 38, 43 Конституции Российской Федерации;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428760" indent="-324000">
              <a:lnSpc>
                <a:spcPct val="95000"/>
              </a:lnSpc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428760" indent="-324000">
              <a:lnSpc>
                <a:spcPct val="95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Times New Roman"/>
              </a:rPr>
              <a:t>В главе 12 Семейного кодекса Российской Федерации;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428760" indent="-324000">
              <a:lnSpc>
                <a:spcPct val="95000"/>
              </a:lnSpc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428760" indent="-324000">
              <a:lnSpc>
                <a:spcPct val="95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Times New Roman"/>
              </a:rPr>
              <a:t>В статьях 19, 52 Закона Российской Федерации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428760" indent="-324000">
              <a:lnSpc>
                <a:spcPct val="95000"/>
              </a:lnSpc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d0d0d"/>
                </a:solidFill>
                <a:latin typeface="Times New Roman"/>
              </a:rPr>
              <a:t>«Об образовании»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strips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Прямоугольник 2"/>
          <p:cNvSpPr/>
          <p:nvPr/>
        </p:nvSpPr>
        <p:spPr>
          <a:xfrm>
            <a:off x="395280" y="1008000"/>
            <a:ext cx="8280360" cy="51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28760" indent="-324000" algn="just">
              <a:lnSpc>
                <a:spcPct val="95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. Каждый имеет право на образование.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428760" indent="-324000" algn="just">
              <a:lnSpc>
                <a:spcPct val="95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 Гарантируются общедоступность и бесплатность дошкольного, основного общего и среднего профессионального образования в государственных или муниципальных образовательных учреждениях и на предприятиях.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428760" indent="-324000" algn="just">
              <a:lnSpc>
                <a:spcPct val="95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. Основное общее образование обязательно. Родители или лица, их заменяющие, обеспечивают получение детьми основного общего образования.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428760" indent="-324000" algn="just">
              <a:lnSpc>
                <a:spcPct val="95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. Российская Федерация устанавливает федеральные государственные образовательные стандарты, поддерживает различные формы образования и самообразования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28" name="Прямоугольник 3"/>
          <p:cNvSpPr/>
          <p:nvPr/>
        </p:nvSpPr>
        <p:spPr>
          <a:xfrm>
            <a:off x="539640" y="333360"/>
            <a:ext cx="8136000" cy="5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татья 43 Конституции РФ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strips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Прямоугольник 1"/>
          <p:cNvSpPr/>
          <p:nvPr/>
        </p:nvSpPr>
        <p:spPr>
          <a:xfrm>
            <a:off x="468360" y="1268280"/>
            <a:ext cx="8207280" cy="42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214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909144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татья 63. Права и обязанности родителей по воспитанию и образованию детей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‏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214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909144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. Родители имеют право и обязаны воспитывать своих детей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214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909144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одители несут ответственность за воспитание и развитие своих детей. Они обязаны заботиться о здоровье, физическом, психическом, духовном и нравственном развитии своих детей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214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909144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214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909144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 Родители обязаны обеспечить получение детьми основного общего образования и создать условия для получения ими среднего (полного) общего образования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30" name="Прямоугольник 2"/>
          <p:cNvSpPr/>
          <p:nvPr/>
        </p:nvSpPr>
        <p:spPr>
          <a:xfrm>
            <a:off x="1332000" y="692280"/>
            <a:ext cx="6264360" cy="4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Глава 12 Семейного кодекса РФ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strips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Прямоугольник 1"/>
          <p:cNvSpPr/>
          <p:nvPr/>
        </p:nvSpPr>
        <p:spPr>
          <a:xfrm>
            <a:off x="395280" y="404640"/>
            <a:ext cx="8353440" cy="53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214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909144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татья 52. Права и обязанности родителей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214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909144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. Родители  несовершеннолетних детей до получения последними общего образования имеют право выбирать формы получения образования, образовательные учреждения, защищать законные права и интересы ребенка, принимать участие в управлении образовательным учреждением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214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909144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 Родители  обучающихся, воспитанников обязаны обеспечить получение детьми основного общего образования и создать условия для получения ими среднего (полного) общего образования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214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909144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. Родители  обучающихся, воспитанников обязаны выполнять Устав образовательного учреждения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214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909144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. Родители  обучающихся, воспитанников несут ответственность за их воспитание, получение ими общего образования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strips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Прямоугольник 1"/>
          <p:cNvSpPr/>
          <p:nvPr/>
        </p:nvSpPr>
        <p:spPr>
          <a:xfrm>
            <a:off x="539640" y="404640"/>
            <a:ext cx="81360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татья 19 Закона РФ «Об образовании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33" name="Прямоугольник 2"/>
          <p:cNvSpPr/>
          <p:nvPr/>
        </p:nvSpPr>
        <p:spPr>
          <a:xfrm>
            <a:off x="684360" y="1268280"/>
            <a:ext cx="7775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214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909144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ребование обязательности общего образования применительно к конкретному обучающемуся сохраняет силу до достижения им возраста восемнадцати лет, если соответствующее образование не было получено обучающимся ранее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734" name="Picture 2" descr="C:\Users\Андрей\Desktop\risunok2_364x480.jpg"/>
          <p:cNvPicPr/>
          <p:nvPr/>
        </p:nvPicPr>
        <p:blipFill>
          <a:blip r:embed="rId1"/>
          <a:stretch/>
        </p:blipFill>
        <p:spPr>
          <a:xfrm>
            <a:off x="4305240" y="2857680"/>
            <a:ext cx="4105440" cy="35956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5" name="Прямоугольник 1"/>
          <p:cNvGrpSpPr/>
          <p:nvPr/>
        </p:nvGrpSpPr>
        <p:grpSpPr>
          <a:xfrm>
            <a:off x="2109960" y="603360"/>
            <a:ext cx="4492440" cy="592200"/>
            <a:chOff x="2109960" y="603360"/>
            <a:chExt cx="4492440" cy="592200"/>
          </a:xfrm>
        </p:grpSpPr>
        <p:pic>
          <p:nvPicPr>
            <p:cNvPr id="736" name="Прямоугольник 1" descr=""/>
            <p:cNvPicPr/>
            <p:nvPr/>
          </p:nvPicPr>
          <p:blipFill>
            <a:blip r:embed="rId1"/>
            <a:stretch/>
          </p:blipFill>
          <p:spPr>
            <a:xfrm>
              <a:off x="2109960" y="603360"/>
              <a:ext cx="4492440" cy="59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7" name=""/>
            <p:cNvSpPr/>
            <p:nvPr/>
          </p:nvSpPr>
          <p:spPr>
            <a:xfrm>
              <a:off x="2124000" y="620640"/>
              <a:ext cx="4464000" cy="55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Устав лицея</a:t>
              </a:r>
              <a:endParaRPr b="0" lang="en-US" sz="32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738" name="Прямоугольник 2"/>
          <p:cNvSpPr/>
          <p:nvPr/>
        </p:nvSpPr>
        <p:spPr>
          <a:xfrm>
            <a:off x="684360" y="1484280"/>
            <a:ext cx="7775280" cy="499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28760" indent="-324000" algn="ctr">
              <a:lnSpc>
                <a:spcPct val="95000"/>
              </a:lnSpc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дагогические работники обязаны: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428760" indent="-324000" algn="just">
              <a:lnSpc>
                <a:spcPct val="95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блюдать устав учреждения, локальные акты;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428760" indent="-324000" algn="just">
              <a:lnSpc>
                <a:spcPct val="95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хранять жизнь, физическое и психическое здоровье ребенка;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428760" indent="-324000" algn="just">
              <a:lnSpc>
                <a:spcPct val="95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полнять условия договора с родителями;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428760" indent="-324000" algn="just">
              <a:lnSpc>
                <a:spcPct val="95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трудничать с семьей обучающихся учреждения по вопросам воспитания и обучения;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428760" indent="-324000" algn="just">
              <a:lnSpc>
                <a:spcPct val="95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сти ответственность за обучение и воспитание детей;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428760" indent="-324000" algn="just">
              <a:lnSpc>
                <a:spcPct val="95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действовать удовлетворению спроса родителей на воспитательные и образовательные услуги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strips dir="l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Прямоугольник 1"/>
          <p:cNvSpPr/>
          <p:nvPr/>
        </p:nvSpPr>
        <p:spPr>
          <a:xfrm>
            <a:off x="324000" y="1341360"/>
            <a:ext cx="842472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28760" indent="-324000" algn="just">
              <a:lnSpc>
                <a:spcPct val="95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щищать законные права и интересы детей;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428760" indent="-324000" algn="just">
              <a:lnSpc>
                <a:spcPct val="95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сти ответственность за обучение и воспитание своих детей;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428760" indent="-324000" algn="just">
              <a:lnSpc>
                <a:spcPct val="95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еспечить получение детьми общего образования и создать условия для получения ими среднего (полного)  общего образования;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428760" indent="-324000" algn="just">
              <a:lnSpc>
                <a:spcPct val="95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еспечить ребенка необходимыми школьными принадлежностями;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428760" indent="-324000" algn="just">
              <a:lnSpc>
                <a:spcPct val="95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блюдать Устав лицея;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428760" indent="-324000" algn="just">
              <a:lnSpc>
                <a:spcPct val="95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воевременно ставить в известность учреждение о возможности отсутствия или болезни ребенка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40" name="Прямоугольник 2"/>
          <p:cNvSpPr/>
          <p:nvPr/>
        </p:nvSpPr>
        <p:spPr>
          <a:xfrm>
            <a:off x="1619280" y="692280"/>
            <a:ext cx="5545080" cy="5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Родители обязаны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strips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Прямоугольник 1"/>
          <p:cNvSpPr/>
          <p:nvPr/>
        </p:nvSpPr>
        <p:spPr>
          <a:xfrm>
            <a:off x="539640" y="476280"/>
            <a:ext cx="8209080" cy="5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бучающиеся в Учреждении обязаны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42" name="Прямоугольник 2"/>
          <p:cNvSpPr/>
          <p:nvPr/>
        </p:nvSpPr>
        <p:spPr>
          <a:xfrm>
            <a:off x="539640" y="1887480"/>
            <a:ext cx="8136000" cy="28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28760" indent="-324000" algn="just">
              <a:lnSpc>
                <a:spcPct val="95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кономно расходовать электроэнергию и воду;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428760" indent="-324000" algn="just">
              <a:lnSpc>
                <a:spcPct val="95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блюдать установленные правила внутреннего трудового распорядка, техники безопасности, санитарии, гигиены;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428760" indent="-324000" algn="just">
              <a:lnSpc>
                <a:spcPct val="95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важать права и считаться с интересами других обучающихся, работников, не подвергать опасности их жизнь и здоровье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strips dir="l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Прямоугольник 1"/>
          <p:cNvSpPr/>
          <p:nvPr/>
        </p:nvSpPr>
        <p:spPr>
          <a:xfrm>
            <a:off x="324000" y="333360"/>
            <a:ext cx="84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d0099"/>
                </a:solidFill>
                <a:latin typeface="Times New Roman"/>
              </a:rPr>
              <a:t>Работа школы по профилактике правонарушений и безнадзорности среди несовершеннолетних:</a:t>
            </a:r>
            <a:br>
              <a:rPr sz="2800"/>
            </a:b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44" name="Прямоугольник 2"/>
          <p:cNvSpPr/>
          <p:nvPr/>
        </p:nvSpPr>
        <p:spPr>
          <a:xfrm>
            <a:off x="539640" y="1413000"/>
            <a:ext cx="8209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300e5"/>
                </a:solidFill>
                <a:latin typeface="Times New Roman"/>
              </a:rPr>
              <a:t>- </a:t>
            </a:r>
            <a:r>
              <a:rPr b="1" lang="ru-RU" sz="3600" spc="-1" strike="noStrike">
                <a:solidFill>
                  <a:srgbClr val="7300e5"/>
                </a:solidFill>
                <a:latin typeface="Times New Roman"/>
              </a:rPr>
              <a:t>ликвидация пробелов в знаниях учащихся;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300e5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7300e5"/>
                </a:solidFill>
                <a:latin typeface="Times New Roman"/>
              </a:rPr>
              <a:t>- </a:t>
            </a:r>
            <a:r>
              <a:rPr b="1" lang="ru-RU" sz="3600" spc="-1" strike="noStrike">
                <a:solidFill>
                  <a:srgbClr val="7300e5"/>
                </a:solidFill>
                <a:latin typeface="Times New Roman"/>
              </a:rPr>
              <a:t>борьба с прогулами занятий;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300e5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7300e5"/>
                </a:solidFill>
                <a:latin typeface="Times New Roman"/>
              </a:rPr>
              <a:t>- семья, находящаяся в социально-опасном положении;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buClr>
                <a:srgbClr val="7300e5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300e5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7300e5"/>
                </a:solidFill>
                <a:latin typeface="Times New Roman"/>
              </a:rPr>
              <a:t>пропаганда здорового образа жизни;</a:t>
            </a:r>
            <a:r>
              <a:rPr b="0" lang="ru-RU" sz="3600" spc="-1" strike="noStrike">
                <a:solidFill>
                  <a:srgbClr val="7300e5"/>
                </a:solidFill>
                <a:latin typeface="Times New Roman"/>
              </a:rPr>
              <a:t> 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buClr>
                <a:srgbClr val="7300e5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300e5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7300e5"/>
                </a:solidFill>
                <a:latin typeface="Times New Roman"/>
              </a:rPr>
              <a:t>проведение индивидуальной работы.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strips dir="l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46" name="Picture 4" descr="F:\1410.jpg"/>
          <p:cNvPicPr/>
          <p:nvPr/>
        </p:nvPicPr>
        <p:blipFill>
          <a:blip r:embed="rId1"/>
          <a:stretch/>
        </p:blipFill>
        <p:spPr>
          <a:xfrm>
            <a:off x="324000" y="333360"/>
            <a:ext cx="8496000" cy="61200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Прямоугольник 1"/>
          <p:cNvSpPr/>
          <p:nvPr/>
        </p:nvSpPr>
        <p:spPr>
          <a:xfrm>
            <a:off x="395280" y="3141720"/>
            <a:ext cx="8424720" cy="18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214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909144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«Чтобы узнать ребенка,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214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909144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надо хорошо знать его семью»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214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909144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В.А. Сухомлинский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683" name="Picture 3" descr="F:\i.jpg"/>
          <p:cNvPicPr/>
          <p:nvPr/>
        </p:nvPicPr>
        <p:blipFill>
          <a:blip r:embed="rId1"/>
          <a:stretch/>
        </p:blipFill>
        <p:spPr>
          <a:xfrm>
            <a:off x="971640" y="476280"/>
            <a:ext cx="2087640" cy="26654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7" name="Прямоугольник 3" descr=""/>
          <p:cNvPicPr/>
          <p:nvPr/>
        </p:nvPicPr>
        <p:blipFill>
          <a:blip r:embed="rId1"/>
          <a:stretch/>
        </p:blipFill>
        <p:spPr>
          <a:xfrm>
            <a:off x="396720" y="334800"/>
            <a:ext cx="8350560" cy="4462560"/>
          </a:xfrm>
          <a:prstGeom prst="rect">
            <a:avLst/>
          </a:prstGeom>
          <a:ln w="0">
            <a:noFill/>
          </a:ln>
        </p:spPr>
      </p:pic>
      <p:pic>
        <p:nvPicPr>
          <p:cNvPr id="748" name="Picture 2" descr="F:\1365066700_reznik.jpg"/>
          <p:cNvPicPr/>
          <p:nvPr/>
        </p:nvPicPr>
        <p:blipFill>
          <a:blip r:embed="rId2"/>
          <a:stretch/>
        </p:blipFill>
        <p:spPr>
          <a:xfrm>
            <a:off x="5651640" y="3213000"/>
            <a:ext cx="3097080" cy="28800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Прямоугольник 1"/>
          <p:cNvSpPr/>
          <p:nvPr/>
        </p:nvSpPr>
        <p:spPr>
          <a:xfrm>
            <a:off x="1979640" y="333360"/>
            <a:ext cx="6769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0d0d0d"/>
                </a:solidFill>
                <a:latin typeface="Times New Roman"/>
              </a:rPr>
              <a:t>Правонарушение — это виновное поведение праводееспособного лица, которое противоречит предписаниям норм права, </a:t>
            </a:r>
            <a:r>
              <a:rPr b="1" lang="ru-RU" sz="2800" spc="-1" strike="noStrike" u="sng">
                <a:solidFill>
                  <a:srgbClr val="0d0d0d"/>
                </a:solidFill>
                <a:uFillTx/>
                <a:latin typeface="Times New Roman"/>
              </a:rPr>
              <a:t>причиняет вред другим лицам</a:t>
            </a:r>
            <a:r>
              <a:rPr b="1" lang="ru-RU" sz="2800" spc="-1" strike="noStrike">
                <a:solidFill>
                  <a:srgbClr val="0d0d0d"/>
                </a:solidFill>
                <a:latin typeface="Times New Roman"/>
              </a:rPr>
              <a:t> и </a:t>
            </a:r>
            <a:r>
              <a:rPr b="1" lang="ru-RU" sz="2800" spc="-1" strike="noStrike" u="sng">
                <a:solidFill>
                  <a:srgbClr val="0d0d0d"/>
                </a:solidFill>
                <a:uFillTx/>
                <a:latin typeface="Times New Roman"/>
              </a:rPr>
              <a:t>влечет</a:t>
            </a:r>
            <a:r>
              <a:rPr b="1" lang="ru-RU" sz="2800" spc="-1" strike="noStrike">
                <a:solidFill>
                  <a:srgbClr val="0d0d0d"/>
                </a:solidFill>
                <a:latin typeface="Times New Roman"/>
              </a:rPr>
              <a:t> за собой юридическую </a:t>
            </a:r>
            <a:r>
              <a:rPr b="1" lang="ru-RU" sz="2800" spc="-1" strike="noStrike" u="sng">
                <a:solidFill>
                  <a:srgbClr val="0d0d0d"/>
                </a:solidFill>
                <a:uFillTx/>
                <a:latin typeface="Times New Roman"/>
              </a:rPr>
              <a:t>ответственность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85" name="Прямоугольник 2"/>
          <p:cNvSpPr/>
          <p:nvPr/>
        </p:nvSpPr>
        <p:spPr>
          <a:xfrm>
            <a:off x="395280" y="2997360"/>
            <a:ext cx="6121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0d0d0d"/>
                </a:solidFill>
                <a:latin typeface="Times New Roman"/>
              </a:rPr>
              <a:t>Все правонарушения делят на две группы: 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Times New Roman"/>
              </a:rPr>
              <a:t>проступки </a:t>
            </a:r>
            <a:r>
              <a:rPr b="1" lang="ru-RU" sz="2800" spc="-1" strike="noStrike">
                <a:solidFill>
                  <a:srgbClr val="0d0d0d"/>
                </a:solidFill>
                <a:latin typeface="Times New Roman"/>
              </a:rPr>
              <a:t>и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Times New Roman"/>
              </a:rPr>
              <a:t> преступления </a:t>
            </a:r>
            <a:r>
              <a:rPr b="1" lang="ru-RU" sz="2800" spc="-1" strike="noStrike">
                <a:solidFill>
                  <a:srgbClr val="0d0d0d"/>
                </a:solidFill>
                <a:latin typeface="Times New Roman"/>
              </a:rPr>
              <a:t>(самые тяжёлые правонарушения)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686" name="Picture 2" descr="MC900438002[1]"/>
          <p:cNvPicPr/>
          <p:nvPr/>
        </p:nvPicPr>
        <p:blipFill>
          <a:blip r:embed="rId1"/>
          <a:stretch/>
        </p:blipFill>
        <p:spPr>
          <a:xfrm>
            <a:off x="395280" y="404640"/>
            <a:ext cx="1584360" cy="1140120"/>
          </a:xfrm>
          <a:prstGeom prst="rect">
            <a:avLst/>
          </a:prstGeom>
          <a:ln w="0">
            <a:noFill/>
          </a:ln>
        </p:spPr>
      </p:pic>
      <p:sp>
        <p:nvSpPr>
          <p:cNvPr id="687" name="Прямоугольник 3"/>
          <p:cNvSpPr/>
          <p:nvPr/>
        </p:nvSpPr>
        <p:spPr>
          <a:xfrm>
            <a:off x="8244000" y="2394000"/>
            <a:ext cx="504720" cy="407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Times New Roman"/>
                <a:ea typeface="Arial Unicode MS"/>
              </a:rPr>
              <a:t>П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Times New Roman"/>
                <a:ea typeface="Arial Unicode MS"/>
              </a:rPr>
              <a:t>Р</a:t>
            </a:r>
            <a:br>
              <a:rPr sz="1800"/>
            </a:br>
            <a:r>
              <a:rPr b="1" lang="ru-RU" sz="1800" spc="-1" strike="noStrike">
                <a:solidFill>
                  <a:srgbClr val="0d0d0d"/>
                </a:solidFill>
                <a:latin typeface="Times New Roman"/>
                <a:ea typeface="Arial Unicode MS"/>
              </a:rPr>
              <a:t>А</a:t>
            </a:r>
            <a:br>
              <a:rPr sz="1800"/>
            </a:br>
            <a:r>
              <a:rPr b="1" lang="ru-RU" sz="1800" spc="-1" strike="noStrike">
                <a:solidFill>
                  <a:srgbClr val="0d0d0d"/>
                </a:solidFill>
                <a:latin typeface="Times New Roman"/>
                <a:ea typeface="Arial Unicode MS"/>
              </a:rPr>
              <a:t>В</a:t>
            </a:r>
            <a:br>
              <a:rPr sz="1800"/>
            </a:br>
            <a:r>
              <a:rPr b="1" lang="ru-RU" sz="1800" spc="-1" strike="noStrike">
                <a:solidFill>
                  <a:srgbClr val="0d0d0d"/>
                </a:solidFill>
                <a:latin typeface="Times New Roman"/>
                <a:ea typeface="Arial Unicode MS"/>
              </a:rPr>
              <a:t>О</a:t>
            </a:r>
            <a:br>
              <a:rPr sz="1800"/>
            </a:br>
            <a:r>
              <a:rPr b="1" lang="ru-RU" sz="1800" spc="-1" strike="noStrike">
                <a:solidFill>
                  <a:srgbClr val="0d0d0d"/>
                </a:solidFill>
                <a:latin typeface="Times New Roman"/>
                <a:ea typeface="Arial Unicode MS"/>
              </a:rPr>
              <a:t>Н</a:t>
            </a:r>
            <a:br>
              <a:rPr sz="1800"/>
            </a:br>
            <a:r>
              <a:rPr b="1" lang="ru-RU" sz="1800" spc="-1" strike="noStrike">
                <a:solidFill>
                  <a:srgbClr val="0d0d0d"/>
                </a:solidFill>
                <a:latin typeface="Times New Roman"/>
                <a:ea typeface="Arial Unicode MS"/>
              </a:rPr>
              <a:t>А</a:t>
            </a:r>
            <a:br>
              <a:rPr sz="1800"/>
            </a:br>
            <a:r>
              <a:rPr b="1" lang="ru-RU" sz="1800" spc="-1" strike="noStrike">
                <a:solidFill>
                  <a:srgbClr val="0d0d0d"/>
                </a:solidFill>
                <a:latin typeface="Times New Roman"/>
                <a:ea typeface="Arial Unicode MS"/>
              </a:rPr>
              <a:t>Р</a:t>
            </a:r>
            <a:br>
              <a:rPr sz="1800"/>
            </a:br>
            <a:r>
              <a:rPr b="1" lang="ru-RU" sz="1800" spc="-1" strike="noStrike">
                <a:solidFill>
                  <a:srgbClr val="0d0d0d"/>
                </a:solidFill>
                <a:latin typeface="Times New Roman"/>
                <a:ea typeface="Arial Unicode MS"/>
              </a:rPr>
              <a:t>У</a:t>
            </a:r>
            <a:br>
              <a:rPr sz="1800"/>
            </a:br>
            <a:r>
              <a:rPr b="1" lang="ru-RU" sz="1800" spc="-1" strike="noStrike">
                <a:solidFill>
                  <a:srgbClr val="0d0d0d"/>
                </a:solidFill>
                <a:latin typeface="Times New Roman"/>
                <a:ea typeface="Arial Unicode MS"/>
              </a:rPr>
              <a:t>Ш</a:t>
            </a:r>
            <a:br>
              <a:rPr sz="1800"/>
            </a:br>
            <a:r>
              <a:rPr b="1" lang="ru-RU" sz="1800" spc="-1" strike="noStrike">
                <a:solidFill>
                  <a:srgbClr val="0d0d0d"/>
                </a:solidFill>
                <a:latin typeface="Times New Roman"/>
                <a:ea typeface="Arial Unicode MS"/>
              </a:rPr>
              <a:t>Е</a:t>
            </a:r>
            <a:br>
              <a:rPr sz="1800"/>
            </a:br>
            <a:r>
              <a:rPr b="1" lang="ru-RU" sz="1800" spc="-1" strike="noStrike">
                <a:solidFill>
                  <a:srgbClr val="0d0d0d"/>
                </a:solidFill>
                <a:latin typeface="Times New Roman"/>
                <a:ea typeface="Arial Unicode MS"/>
              </a:rPr>
              <a:t>Н</a:t>
            </a:r>
            <a:br>
              <a:rPr sz="1800"/>
            </a:br>
            <a:r>
              <a:rPr b="1" lang="ru-RU" sz="1800" spc="-1" strike="noStrike">
                <a:solidFill>
                  <a:srgbClr val="0d0d0d"/>
                </a:solidFill>
                <a:latin typeface="Times New Roman"/>
                <a:ea typeface="Arial Unicode MS"/>
              </a:rPr>
              <a:t>И</a:t>
            </a:r>
            <a:br>
              <a:rPr sz="1800"/>
            </a:br>
            <a:r>
              <a:rPr b="1" lang="ru-RU" sz="1800" spc="-1" strike="noStrike">
                <a:solidFill>
                  <a:srgbClr val="0d0d0d"/>
                </a:solidFill>
                <a:latin typeface="Times New Roman"/>
                <a:ea typeface="Arial Unicode MS"/>
              </a:rPr>
              <a:t>Е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88" name="Прямоугольник 3"/>
          <p:cNvSpPr/>
          <p:nvPr/>
        </p:nvSpPr>
        <p:spPr>
          <a:xfrm>
            <a:off x="936720" y="2987640"/>
            <a:ext cx="576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689" name="Picture 25" descr="MC900287591[1]"/>
          <p:cNvPicPr/>
          <p:nvPr/>
        </p:nvPicPr>
        <p:blipFill>
          <a:blip r:embed="rId2"/>
          <a:stretch/>
        </p:blipFill>
        <p:spPr>
          <a:xfrm flipH="1">
            <a:off x="6875640" y="2565360"/>
            <a:ext cx="1225440" cy="1290600"/>
          </a:xfrm>
          <a:prstGeom prst="rect">
            <a:avLst/>
          </a:prstGeom>
          <a:ln w="0">
            <a:noFill/>
          </a:ln>
        </p:spPr>
      </p:pic>
      <p:pic>
        <p:nvPicPr>
          <p:cNvPr id="690" name="Picture 21" descr="MC900237922[1]"/>
          <p:cNvPicPr/>
          <p:nvPr/>
        </p:nvPicPr>
        <p:blipFill>
          <a:blip r:embed="rId3"/>
          <a:stretch/>
        </p:blipFill>
        <p:spPr>
          <a:xfrm>
            <a:off x="7020000" y="4005360"/>
            <a:ext cx="1224000" cy="993600"/>
          </a:xfrm>
          <a:prstGeom prst="rect">
            <a:avLst/>
          </a:prstGeom>
          <a:ln w="0">
            <a:noFill/>
          </a:ln>
        </p:spPr>
      </p:pic>
      <p:pic>
        <p:nvPicPr>
          <p:cNvPr id="691" name="Picture 22" descr="MC900196536[1]"/>
          <p:cNvPicPr/>
          <p:nvPr/>
        </p:nvPicPr>
        <p:blipFill>
          <a:blip r:embed="rId4"/>
          <a:stretch/>
        </p:blipFill>
        <p:spPr>
          <a:xfrm>
            <a:off x="7308720" y="5084640"/>
            <a:ext cx="968400" cy="1219320"/>
          </a:xfrm>
          <a:prstGeom prst="rect">
            <a:avLst/>
          </a:prstGeom>
          <a:ln w="0">
            <a:noFill/>
          </a:ln>
        </p:spPr>
      </p:pic>
      <p:sp>
        <p:nvSpPr>
          <p:cNvPr id="692" name="Прямоугольник 9"/>
          <p:cNvSpPr/>
          <p:nvPr/>
        </p:nvSpPr>
        <p:spPr>
          <a:xfrm>
            <a:off x="395280" y="4508640"/>
            <a:ext cx="676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0d0d0d"/>
                </a:solidFill>
                <a:latin typeface="Times New Roman"/>
              </a:rPr>
              <a:t>Проступок -это</a:t>
            </a:r>
            <a:r>
              <a:rPr b="0" lang="ru-RU" sz="2400" spc="-1" strike="noStrike">
                <a:solidFill>
                  <a:srgbClr val="0d0d0d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d0d0d"/>
                </a:solidFill>
                <a:latin typeface="Times New Roman"/>
              </a:rPr>
              <a:t>действие, либо бездействие, посягающее на установленные законами или подзаконными актами общественные отношения, отличающиеся небольшой общественной опасностью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strips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Прямоугольник 1"/>
          <p:cNvSpPr/>
          <p:nvPr/>
        </p:nvSpPr>
        <p:spPr>
          <a:xfrm>
            <a:off x="395280" y="404640"/>
            <a:ext cx="83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300e5"/>
                </a:solidFill>
                <a:latin typeface="Times New Roman"/>
              </a:rPr>
              <a:t>Виды правонарушений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94" name="Прямоугольник 4"/>
          <p:cNvSpPr/>
          <p:nvPr/>
        </p:nvSpPr>
        <p:spPr>
          <a:xfrm>
            <a:off x="5727240" y="2060640"/>
            <a:ext cx="248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Times New Roman"/>
                <a:ea typeface="Arial Unicode MS"/>
              </a:rPr>
              <a:t>Гражданско-правовая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695" name="Скругленный прямоугольник 5"/>
          <p:cNvGrpSpPr/>
          <p:nvPr/>
        </p:nvGrpSpPr>
        <p:grpSpPr>
          <a:xfrm>
            <a:off x="5126040" y="1676520"/>
            <a:ext cx="3713040" cy="1054080"/>
            <a:chOff x="5126040" y="1676520"/>
            <a:chExt cx="3713040" cy="1054080"/>
          </a:xfrm>
        </p:grpSpPr>
        <p:pic>
          <p:nvPicPr>
            <p:cNvPr id="696" name="Скругленный прямоугольник 5" descr=""/>
            <p:cNvPicPr/>
            <p:nvPr/>
          </p:nvPicPr>
          <p:blipFill>
            <a:blip r:embed="rId1"/>
            <a:stretch/>
          </p:blipFill>
          <p:spPr>
            <a:xfrm>
              <a:off x="5126040" y="1676520"/>
              <a:ext cx="371304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7" name=""/>
            <p:cNvSpPr/>
            <p:nvPr/>
          </p:nvSpPr>
          <p:spPr>
            <a:xfrm>
              <a:off x="5197320" y="1749600"/>
              <a:ext cx="3573720" cy="90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d0d0d"/>
                  </a:solidFill>
                  <a:latin typeface="Times New Roman"/>
                  <a:ea typeface="Arial Unicode MS"/>
                </a:rPr>
                <a:t>гражданско-правовая</a:t>
              </a: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d0d0d"/>
                  </a:solidFill>
                  <a:latin typeface="Times New Roman"/>
                  <a:ea typeface="Arial Unicode MS"/>
                </a:rPr>
                <a:t>ответственность</a:t>
              </a: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98" name="Скругленный прямоугольник 7"/>
          <p:cNvGrpSpPr/>
          <p:nvPr/>
        </p:nvGrpSpPr>
        <p:grpSpPr>
          <a:xfrm>
            <a:off x="371520" y="1609560"/>
            <a:ext cx="3719520" cy="1121040"/>
            <a:chOff x="371520" y="1609560"/>
            <a:chExt cx="3719520" cy="1121040"/>
          </a:xfrm>
        </p:grpSpPr>
        <p:pic>
          <p:nvPicPr>
            <p:cNvPr id="699" name="Скругленный прямоугольник 7" descr=""/>
            <p:cNvPicPr/>
            <p:nvPr/>
          </p:nvPicPr>
          <p:blipFill>
            <a:blip r:embed="rId2"/>
            <a:stretch/>
          </p:blipFill>
          <p:spPr>
            <a:xfrm>
              <a:off x="371520" y="1609560"/>
              <a:ext cx="3719520" cy="112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0" name=""/>
            <p:cNvSpPr/>
            <p:nvPr/>
          </p:nvSpPr>
          <p:spPr>
            <a:xfrm>
              <a:off x="447840" y="1681200"/>
              <a:ext cx="3566880" cy="9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d0d0d"/>
                  </a:solidFill>
                  <a:latin typeface="Times New Roman"/>
                  <a:ea typeface="Arial Unicode MS"/>
                </a:rPr>
                <a:t>уголовная ответственность</a:t>
              </a: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701" name="Скругленный прямоугольник 8"/>
          <p:cNvGrpSpPr/>
          <p:nvPr/>
        </p:nvGrpSpPr>
        <p:grpSpPr>
          <a:xfrm>
            <a:off x="1090440" y="3981600"/>
            <a:ext cx="3359160" cy="1199880"/>
            <a:chOff x="1090440" y="3981600"/>
            <a:chExt cx="3359160" cy="1199880"/>
          </a:xfrm>
        </p:grpSpPr>
        <p:pic>
          <p:nvPicPr>
            <p:cNvPr id="702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1090440" y="3981600"/>
              <a:ext cx="3359160" cy="119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3" name=""/>
            <p:cNvSpPr/>
            <p:nvPr/>
          </p:nvSpPr>
          <p:spPr>
            <a:xfrm>
              <a:off x="1171440" y="4060800"/>
              <a:ext cx="3200400" cy="10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d0d0d"/>
                  </a:solidFill>
                  <a:latin typeface="Times New Roman"/>
                  <a:ea typeface="Arial Unicode MS"/>
                </a:rPr>
                <a:t>административная</a:t>
              </a: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d0d0d"/>
                  </a:solidFill>
                  <a:latin typeface="Times New Roman"/>
                  <a:ea typeface="Arial Unicode MS"/>
                </a:rPr>
                <a:t>ответственность</a:t>
              </a: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704" name="Скругленный прямоугольник 9"/>
          <p:cNvGrpSpPr/>
          <p:nvPr/>
        </p:nvGrpSpPr>
        <p:grpSpPr>
          <a:xfrm>
            <a:off x="4767120" y="3981600"/>
            <a:ext cx="3498840" cy="1199880"/>
            <a:chOff x="4767120" y="3981600"/>
            <a:chExt cx="3498840" cy="1199880"/>
          </a:xfrm>
        </p:grpSpPr>
        <p:pic>
          <p:nvPicPr>
            <p:cNvPr id="705" name="Скругленный прямоугольник 9" descr=""/>
            <p:cNvPicPr/>
            <p:nvPr/>
          </p:nvPicPr>
          <p:blipFill>
            <a:blip r:embed="rId4"/>
            <a:stretch/>
          </p:blipFill>
          <p:spPr>
            <a:xfrm>
              <a:off x="4767120" y="3981600"/>
              <a:ext cx="3498840" cy="119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6" name=""/>
            <p:cNvSpPr/>
            <p:nvPr/>
          </p:nvSpPr>
          <p:spPr>
            <a:xfrm>
              <a:off x="4844880" y="4060800"/>
              <a:ext cx="3343320" cy="10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d0d0d"/>
                  </a:solidFill>
                  <a:latin typeface="Times New Roman"/>
                  <a:ea typeface="Arial Unicode MS"/>
                </a:rPr>
                <a:t>дисциплинарная</a:t>
              </a: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d0d0d"/>
                  </a:solidFill>
                  <a:latin typeface="Times New Roman"/>
                  <a:ea typeface="Arial Unicode MS"/>
                </a:rPr>
                <a:t>ответственность</a:t>
              </a: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cxnSp>
        <p:nvCxnSpPr>
          <p:cNvPr id="707" name="Прямая со стрелкой 11"/>
          <p:cNvCxnSpPr/>
          <p:nvPr/>
        </p:nvCxnSpPr>
        <p:spPr>
          <a:xfrm>
            <a:off x="4500720" y="907560"/>
            <a:ext cx="792720" cy="30265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708" name="Прямая со стрелкой 15"/>
          <p:cNvCxnSpPr/>
          <p:nvPr/>
        </p:nvCxnSpPr>
        <p:spPr>
          <a:xfrm flipH="1">
            <a:off x="3995280" y="907560"/>
            <a:ext cx="432720" cy="30265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709" name="Прямая со стрелкой 30"/>
          <p:cNvCxnSpPr/>
          <p:nvPr/>
        </p:nvCxnSpPr>
        <p:spPr>
          <a:xfrm>
            <a:off x="6084720" y="907920"/>
            <a:ext cx="504000" cy="7214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710" name="Прямая со стрелкой 35"/>
          <p:cNvCxnSpPr/>
          <p:nvPr/>
        </p:nvCxnSpPr>
        <p:spPr>
          <a:xfrm flipH="1">
            <a:off x="2483640" y="907920"/>
            <a:ext cx="648360" cy="7214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</p:spTree>
  </p:cSld>
  <p:transition spd="med">
    <p:strips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1" name="Прямоугольник 1"/>
          <p:cNvGrpSpPr/>
          <p:nvPr/>
        </p:nvGrpSpPr>
        <p:grpSpPr>
          <a:xfrm>
            <a:off x="512640" y="517680"/>
            <a:ext cx="8193240" cy="707760"/>
            <a:chOff x="512640" y="517680"/>
            <a:chExt cx="8193240" cy="707760"/>
          </a:xfrm>
        </p:grpSpPr>
        <p:pic>
          <p:nvPicPr>
            <p:cNvPr id="712" name="Прямоугольник 1" descr=""/>
            <p:cNvPicPr/>
            <p:nvPr/>
          </p:nvPicPr>
          <p:blipFill>
            <a:blip r:embed="rId1"/>
            <a:stretch/>
          </p:blipFill>
          <p:spPr>
            <a:xfrm>
              <a:off x="512640" y="517680"/>
              <a:ext cx="8193240" cy="70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3" name=""/>
            <p:cNvSpPr/>
            <p:nvPr/>
          </p:nvSpPr>
          <p:spPr>
            <a:xfrm>
              <a:off x="539640" y="549360"/>
              <a:ext cx="813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7300e5"/>
                  </a:solidFill>
                  <a:latin typeface="Times New Roman"/>
                  <a:ea typeface="Times New Roman"/>
                </a:rPr>
                <a:t>  </a:t>
              </a:r>
              <a:r>
                <a:rPr b="1" lang="ru-RU" sz="3600" spc="-1" strike="noStrike">
                  <a:solidFill>
                    <a:srgbClr val="7300e5"/>
                  </a:solidFill>
                  <a:latin typeface="Times New Roman"/>
                  <a:ea typeface="Times New Roman"/>
                </a:rPr>
                <a:t>Стадии отклоняющегося поведения:</a:t>
              </a:r>
              <a:endParaRPr b="0" lang="en-US" sz="3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714" name="Прямоугольник 2"/>
          <p:cNvSpPr/>
          <p:nvPr/>
        </p:nvSpPr>
        <p:spPr>
          <a:xfrm>
            <a:off x="684360" y="1700280"/>
            <a:ext cx="7920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7300e5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300e5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7300e5"/>
                </a:solidFill>
                <a:latin typeface="Times New Roman"/>
              </a:rPr>
              <a:t>неодобряемое поведение;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buClr>
                <a:srgbClr val="7300e5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300e5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7300e5"/>
                </a:solidFill>
                <a:latin typeface="Times New Roman"/>
              </a:rPr>
              <a:t>порицаемое поведение;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300e5"/>
                </a:solidFill>
                <a:latin typeface="Times New Roman"/>
              </a:rPr>
              <a:t>- девиантное поведение;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300e5"/>
                </a:solidFill>
                <a:latin typeface="Times New Roman"/>
              </a:rPr>
              <a:t>- предпреступное поведение;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300e5"/>
                </a:solidFill>
                <a:latin typeface="Times New Roman"/>
              </a:rPr>
              <a:t>- противоправное или преступное поведение.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strips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Прямоугольник 1"/>
          <p:cNvSpPr/>
          <p:nvPr/>
        </p:nvSpPr>
        <p:spPr>
          <a:xfrm>
            <a:off x="826920" y="692280"/>
            <a:ext cx="7632720" cy="581400"/>
          </a:xfrm>
          <a:prstGeom prst="rect">
            <a:avLst/>
          </a:prstGeom>
          <a:gradFill rotWithShape="0">
            <a:gsLst>
              <a:gs pos="0">
                <a:srgbClr val="bf7eff"/>
              </a:gs>
              <a:gs pos="100000">
                <a:srgbClr val="ebd9ff"/>
              </a:gs>
            </a:gsLst>
            <a:lin ang="16200000"/>
          </a:gradFill>
          <a:ln w="9360">
            <a:solidFill>
              <a:srgbClr val="952df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8dc"/>
                </a:solidFill>
                <a:latin typeface="Tahoma"/>
              </a:rPr>
              <a:t>Признаки проблемных детей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716" name="Picture 2" descr="C:\Users\Андрей\Desktop\258915_html_m1b8885e9.jpg"/>
          <p:cNvPicPr/>
          <p:nvPr/>
        </p:nvPicPr>
        <p:blipFill>
          <a:blip r:embed="rId1"/>
          <a:stretch/>
        </p:blipFill>
        <p:spPr>
          <a:xfrm>
            <a:off x="6156360" y="4221000"/>
            <a:ext cx="2603520" cy="2252880"/>
          </a:xfrm>
          <a:prstGeom prst="rect">
            <a:avLst/>
          </a:prstGeom>
          <a:ln w="0">
            <a:noFill/>
          </a:ln>
        </p:spPr>
      </p:pic>
      <p:sp>
        <p:nvSpPr>
          <p:cNvPr id="717" name="Прямоугольник 3"/>
          <p:cNvSpPr/>
          <p:nvPr/>
        </p:nvSpPr>
        <p:spPr>
          <a:xfrm>
            <a:off x="755640" y="1413000"/>
            <a:ext cx="79930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7300e5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300e5"/>
                </a:solidFill>
                <a:latin typeface="Times New Roman"/>
              </a:rPr>
              <a:t>Уклонение от учебы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514440" indent="-514440">
              <a:buClr>
                <a:srgbClr val="7300e5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300e5"/>
                </a:solidFill>
                <a:latin typeface="Times New Roman"/>
              </a:rPr>
              <a:t>Низкая общественно-трудовая активность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300e5"/>
                </a:solidFill>
                <a:latin typeface="Times New Roman"/>
              </a:rPr>
              <a:t>3.   Негативные проявления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300e5"/>
                </a:solidFill>
                <a:latin typeface="Times New Roman"/>
              </a:rPr>
              <a:t>4.   Негативизм в оценке действительности.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300e5"/>
                </a:solidFill>
                <a:latin typeface="Times New Roman"/>
              </a:rPr>
              <a:t>5.   Повышенная критичность по отношению к педагогам и взрослым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300e5"/>
                </a:solidFill>
                <a:latin typeface="Times New Roman"/>
              </a:rPr>
              <a:t>6.</a:t>
            </a:r>
            <a:r>
              <a:rPr b="0" lang="ru-RU" sz="2800" spc="-1" strike="noStrike">
                <a:solidFill>
                  <a:srgbClr val="7300e5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7300e5"/>
                </a:solidFill>
                <a:latin typeface="Times New Roman"/>
              </a:rPr>
              <a:t>Отношение к воспитательным мероприятиям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718" name="Picture 3" descr="C:\Users\Андрей\Desktop\0020-016-Pamjatka-molodezhi.jpg"/>
          <p:cNvPicPr/>
          <p:nvPr/>
        </p:nvPicPr>
        <p:blipFill>
          <a:blip r:embed="rId2"/>
          <a:stretch/>
        </p:blipFill>
        <p:spPr>
          <a:xfrm>
            <a:off x="395280" y="4832280"/>
            <a:ext cx="1800360" cy="16239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26" descr="MC900438002[1]"/>
          <p:cNvPicPr/>
          <p:nvPr/>
        </p:nvPicPr>
        <p:blipFill>
          <a:blip r:embed="rId1"/>
          <a:stretch/>
        </p:blipFill>
        <p:spPr>
          <a:xfrm>
            <a:off x="179280" y="189000"/>
            <a:ext cx="1676520" cy="1139760"/>
          </a:xfrm>
          <a:prstGeom prst="rect">
            <a:avLst/>
          </a:prstGeom>
          <a:ln w="0">
            <a:noFill/>
          </a:ln>
        </p:spPr>
      </p:pic>
      <p:sp>
        <p:nvSpPr>
          <p:cNvPr id="720" name="Прямоугольник 2"/>
          <p:cNvSpPr/>
          <p:nvPr/>
        </p:nvSpPr>
        <p:spPr>
          <a:xfrm>
            <a:off x="1835280" y="404640"/>
            <a:ext cx="691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300e5"/>
                </a:solidFill>
                <a:latin typeface="Times New Roman"/>
              </a:rPr>
              <a:t>Почему формируется такое поведение? Что влияет на ребёнка?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21" name="Прямоугольник 3"/>
          <p:cNvSpPr/>
          <p:nvPr/>
        </p:nvSpPr>
        <p:spPr>
          <a:xfrm>
            <a:off x="539640" y="1989000"/>
            <a:ext cx="82090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Times New Roman"/>
              </a:rPr>
              <a:t>1. Неблагоприятные условия семейного воспитания.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Times New Roman"/>
              </a:rPr>
              <a:t>2. Недостаточное внимание и любовь со стороны родителей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Times New Roman"/>
              </a:rPr>
              <a:t>3. Гиперопека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Times New Roman"/>
              </a:rPr>
              <a:t>4. Чрезмерное удовлетворение потребностей ребенка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Times New Roman"/>
              </a:rPr>
              <a:t>5. Чрезмерная требовательность и авторитарность родителей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strips dir="lu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2" name="Прямоугольник 1" descr=""/>
          <p:cNvPicPr/>
          <p:nvPr/>
        </p:nvPicPr>
        <p:blipFill>
          <a:blip r:embed="rId1"/>
          <a:stretch/>
        </p:blipFill>
        <p:spPr>
          <a:xfrm>
            <a:off x="3833640" y="225360"/>
            <a:ext cx="2341800" cy="944640"/>
          </a:xfrm>
          <a:prstGeom prst="rect">
            <a:avLst/>
          </a:prstGeom>
          <a:ln w="0">
            <a:noFill/>
          </a:ln>
        </p:spPr>
      </p:pic>
      <p:sp>
        <p:nvSpPr>
          <p:cNvPr id="723" name="Прямоугольник 2"/>
          <p:cNvSpPr/>
          <p:nvPr/>
        </p:nvSpPr>
        <p:spPr>
          <a:xfrm>
            <a:off x="395280" y="620640"/>
            <a:ext cx="84247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d0099"/>
                </a:solidFill>
                <a:latin typeface="Times New Roman"/>
              </a:rPr>
              <a:t>1) ребёнка постоянно критикуют, он учится ...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buClr>
                <a:srgbClr val="4d0099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d0099"/>
                </a:solidFill>
                <a:latin typeface="Times New Roman"/>
              </a:rPr>
              <a:t>2) ребенок живет во вражде, он учится ...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d0099"/>
                </a:solidFill>
                <a:latin typeface="Times New Roman"/>
              </a:rPr>
              <a:t>3) ребенок растет в упреках, он учится ...  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d0099"/>
                </a:solidFill>
                <a:latin typeface="Times New Roman"/>
              </a:rPr>
              <a:t>                                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d0099"/>
                </a:solidFill>
                <a:latin typeface="Times New Roman"/>
              </a:rPr>
              <a:t>4) ребенок растет в честности, он учится ...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d0099"/>
                </a:solidFill>
                <a:latin typeface="Times New Roman"/>
              </a:rPr>
              <a:t>5) ребенок растет в безопасности,  он учится …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d0099"/>
                </a:solidFill>
                <a:latin typeface="Times New Roman"/>
              </a:rPr>
              <a:t>6) ребенка поддерживают, он учится ...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d0099"/>
                </a:solidFill>
                <a:latin typeface="Times New Roman"/>
              </a:rPr>
              <a:t>7) ребенка высмеивают, он учится ...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d0099"/>
                </a:solidFill>
                <a:latin typeface="Times New Roman"/>
              </a:rPr>
              <a:t>8) ребенок живет в понимании и дружелюбии,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d0099"/>
                </a:solidFill>
                <a:latin typeface="Times New Roman"/>
              </a:rPr>
              <a:t>он учится ...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strips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Прямоугольник 3"/>
          <p:cNvSpPr/>
          <p:nvPr/>
        </p:nvSpPr>
        <p:spPr>
          <a:xfrm>
            <a:off x="3659760" y="3244680"/>
            <a:ext cx="2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25" name="Прямоугольник 4"/>
          <p:cNvSpPr/>
          <p:nvPr/>
        </p:nvSpPr>
        <p:spPr>
          <a:xfrm>
            <a:off x="395280" y="1474920"/>
            <a:ext cx="83534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Профилактика преступлений и  правонарушений среди несовершеннолетних- это система мер, направленных на выявление и устранение причин и условий, способствующих безнадзорности и правонарушениям несовершеннолетних.</a:t>
            </a:r>
            <a:r>
              <a:rPr b="1" lang="ru-RU" sz="1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strips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0T07:53:35Z</dcterms:created>
  <dc:creator>Елена</dc:creator>
  <dc:description/>
  <dc:language>en-US</dc:language>
  <cp:lastModifiedBy>Teacher_2</cp:lastModifiedBy>
  <cp:lastPrinted>2020-03-14T20:42:11Z</cp:lastPrinted>
  <dcterms:modified xsi:type="dcterms:W3CDTF">2024-12-02T05:44:19Z</dcterms:modified>
  <cp:revision>49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3</vt:r8>
  </property>
</Properties>
</file>